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0E4-2149-4016-A4C4-92276D33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EFD-D405-45BD-AAE0-E144B674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60E-AB8C-46AF-B5A2-7E2C6635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E81-53FE-495F-91FE-62467A7D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1BF-365C-4097-A9A4-570E1B30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C73-EFDD-49DF-8BD7-F0B97A6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039-FC32-4644-B7C6-71849D86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9DA-649E-4632-A0D6-99DB91C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04B-0178-4E4C-99BD-6A81987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872-6840-4D0B-BC01-6ABD615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447-2D47-4353-97F8-D23E89B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027-F5C1-4412-A239-27E0E8F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2202-3DA6-426C-ADEA-83FF336B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ftware Requirement Document (S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f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Work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1160" y="22860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 4010 Class 12 – 10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t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(8) teams to present in two (2) class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eam’s presentation will be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5 min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.e.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min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ting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min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slide – Name of system, names of team members, roles of team members for first deliverable, date (1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2 - 10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DF5-D001-4157-B027-2DB2D3BDE2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t of Presenta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of presentation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system and scope (1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chedul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deliv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.e., Gantt chart or PERT chart (1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diagram of all use cases (1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quirements – descrip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uses cases with associated nonfunctional requirements (at most 4 slid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interface design for one of the use cases mentioned above (1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2 - 10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CB6-8B19-4207-81C2-0563AF87B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t of Presenta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to 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ll teams must be prepared to present on Tuesday Oct.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 will select the teams to present at the start of cla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lide should contain at most 8+/ 2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on each slide should be bigger than or equal to 20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er of the team must take part in presenting the material.  Team leader starts th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2 - 10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243-B5D8-474B-9762-7D055192E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t of Presentation c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to note co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Rehearse your pres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 me your slides on Tuesday Oct. 12 before 6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am will grade the other team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ee the class web page for a sample of the grading shee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will be assigned based on the average of the other teams grades + my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2 - 10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46E-D1EC-4D30-9F38-AC2239D44D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of Project Schedul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4920" y="838080"/>
          <a:ext cx="8458200" cy="4713120"/>
        </p:xfrm>
        <a:graphic>
          <a:graphicData uri="http://schemas.openxmlformats.org/drawingml/2006/table">
            <a:tbl>
              <a:tblPr/>
              <a:tblGrid>
                <a:gridCol w="990360"/>
                <a:gridCol w="1524240"/>
                <a:gridCol w="3047760"/>
                <a:gridCol w="1143000"/>
                <a:gridCol w="1752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s of team assigned, tasks identified and schedule crea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ase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ases identified, team members developed use cases, use cases documen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creation of S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s are documen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, T2 (M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completion of S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D is updated and corrections ma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S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D submitted and presented to custom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 (D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579132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 – Task    M – Milestone    D - Deli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2 - 10/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D4F-CC30-4E39-BD8F-7E6595A861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am Work 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visit individual teams to answer question and check on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2 - 10/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8A4-A928-4200-8A07-E6E1E12EB8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2:56Z</dcterms:created>
  <dc:creator>clarkep</dc:creator>
  <dc:description/>
  <dc:language>en-US</dc:language>
  <cp:lastModifiedBy>clarkep</cp:lastModifiedBy>
  <dcterms:modified xsi:type="dcterms:W3CDTF">2004-10-07T21:57:44Z</dcterms:modified>
  <cp:revision>522</cp:revision>
  <dc:subject/>
  <dc:title>Slide 1</dc:title>
</cp:coreProperties>
</file>