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B99-D70A-4DE0-A691-957A26B9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CFF-19C6-45C6-A400-10F7CAF3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C43-F856-42B0-AD2A-3FDC6C1B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2EF-A4EC-437F-A051-729D21BA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49E-B876-4FD5-ADF0-B68011C9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B9C-02C8-498D-A789-88F47738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34B-A51B-4F3E-8E51-B55F1334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561-C039-43D1-A57F-C7675482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DB7-DD9E-4F10-B01C-16EAED19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ACD-0717-483E-8F5A-608F4199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00F-39B3-4AAA-9B49-431D3970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02A-83DF-40BE-8F3A-B0C97F21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C8C8-6094-47F5-BBBA-6DA9039D5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ystem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Syste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Design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1160" y="22860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 4010 Class 15 – 10/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f the subsystem interf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s little information about the implementation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s the impact of change when the implementation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s the dependencies between individual components of different sub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ystem Design Concepts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BC2-5F03-4B82-9E4F-3AC244B5D5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Coupling and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Coup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trength of dependencies between subsyste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ly coupled subsystems are relatively independent, i.e., modifications to one subsystems will have little impact on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ubsystems are strongly couple you might need to rethink you system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ystem Design Concepts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6FF-20BA-486E-B67C-2A5C22F416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Cohe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trength of dependencies within a sub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subsystem contains many related objects that perform similar tasks its cohesion is hi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objects in the subsystem exhibit low cohesion you might want to rethink your system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ubsystems should exhibit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high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coupling and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low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cohesion.  R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7+/2 rule of concepts at any level of abstraction, i.e., less than  9 sub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ystem Design Concepts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0EC-846B-4E46-AA68-615A413C3D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software archite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s the system decomposition, the  global control flow, error-handling policies and inter-subsystem communication protocols (Shaw &amp; Garlan ’9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architec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Repository architecture (Blackboard vari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ystems access and modify data from a single data structure called the central reposi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ystems interact through the central data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091-AE75-429D-9008-278184C2B2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 Architecture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1295280"/>
            <a:ext cx="15238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676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1981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67800" y="13064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39800" y="1992240"/>
            <a:ext cx="121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ata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Data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Data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Data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182880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057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00400"/>
            <a:ext cx="7925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data flow dictated either by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sitory or subsystems (synchronization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s requir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compiler (P.239 Fig. 6-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ubsystem depends only on a central data structure,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A5F-B6A8-44F7-A2C6-D114B6D57C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 Architecture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5000" y="1055520"/>
            <a:ext cx="51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Model/View/Controller (MV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190512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304812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243828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2133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32767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248520" y="2895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55600" y="183996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33720" y="2144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2760" y="2133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560" y="2895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8720" y="29718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94040" y="327672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cr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99000" y="20574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6400" y="297180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sub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sponsible for maintaining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sub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sponsible for display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er sub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sponsible for managi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of interactions with the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DEE-1EE5-4726-B076-98F68B1810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 Architecture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the state of the model are propagated to the view subsystem via a subscribe/notify protoc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ase o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 Model implements the central data structure and control objects dictate the control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-View variant used in Visual C++ environment – MFC, for developing Windows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0EB-7C41-4DAF-83BE-255F5D0721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 Architecture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0520" y="1208160"/>
            <a:ext cx="45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Client/Serve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30840" y="2122560"/>
            <a:ext cx="15238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30840" y="250344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30840" y="280836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213372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8840" y="2819520"/>
            <a:ext cx="994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1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2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266688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743200" y="2883960"/>
            <a:ext cx="2987640" cy="1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20960" y="2590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560" y="25146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7720" y="29718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1280" y="29718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1911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ub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ovides services to instance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ubsystems, cl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sub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sponsible for interacting wit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32F-CFF9-4791-BED4-EE08D11E9B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 Architecture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for service usually done via a remote procedure call mechanism or common object broker (e.g., CORBA or Java RM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flow in the clients and the servers is independent except for synchronization to manage requests or to receive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Unix OS, web serv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C31-A70A-4595-BA46-AAD0DBE930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 Architecture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6720" y="1066680"/>
            <a:ext cx="45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Peer-to-pee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21160" y="2122560"/>
            <a:ext cx="15238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21160" y="250344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21160" y="280836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6320" y="213372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0" y="2819520"/>
            <a:ext cx="994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1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2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06960" y="31240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228600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80040" y="19051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080" y="34290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19112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ation of client/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bsystem can act as both client and server w.r.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ing and providing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 database that accepts request from user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s notifications to the app. when certain data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2286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02884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4828-557F-4BE3-9A88-0A176504B5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System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resulting from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Nonfunctional requir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nstraints on the system e.g., max. response time, min. throughput, reliability, OS platform etc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Use cas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escribing the functionality of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Object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ntities manipulated by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Sequence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equence of interactions among objects in use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6EE-A10A-4281-83EE-39FBE386B0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 Architecture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 lay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cludes all boundary objects that deal with the user including windows, forms, web pages etc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1371600"/>
            <a:ext cx="1828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1143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200400" y="11430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11430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438280"/>
            <a:ext cx="1828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200400" y="2209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2209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3581280"/>
            <a:ext cx="1828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200400" y="3352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352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1371600"/>
            <a:ext cx="1828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2438280"/>
            <a:ext cx="1828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581280"/>
            <a:ext cx="1828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8960" y="1055520"/>
            <a:ext cx="212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Three-t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7D5-0CF7-47D7-A56A-6BDAFAB085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 Architecture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cludes all control and entity objects, realizing the processing, rule checking, and notification required by the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alizes storage, retrieval, and query of persistent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separation of between the interface layer and the application layer enables the development or modification of different user interfaces for the same application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Four-tier on P. 244 in test.  Possible test questio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901-FEF5-478C-B01B-08CCDB1CEE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 Design Concept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ystems Support Logging System (SS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Def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software system to log and manage request made by CS 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 users shall submit requests via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quest shall contain at least – a brief description of the problem, the user’s name, user id, location, machine 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quest shall be stored in the SSLS system upon receipt of the reque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s staff shall respond to the request as soon as possible after receipt and update the stored message as hand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AFA-AD51-4022-8EB5-57B86D1A47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 Design Concept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2362320"/>
            <a:ext cx="1828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&lt;subsystem&gt;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LSUser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95280" y="2133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2133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2438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&lt;subsystem&gt;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029200" y="2209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2209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4495680"/>
            <a:ext cx="14475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&lt;subsystem&gt;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LS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76360" y="426708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26708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971800"/>
            <a:ext cx="114300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419720" y="3047760"/>
            <a:ext cx="1143000" cy="144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7440" y="993600"/>
            <a:ext cx="79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iagram: Subsystem decomposition for the SSL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FD0-CF0C-496C-AB1F-3E76FAEE86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00200" y="2438280"/>
            <a:ext cx="632448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190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600200" y="190476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19051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5360" y="1981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266688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23360" y="2700360"/>
            <a:ext cx="119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presistent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464832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04040" y="4681440"/>
            <a:ext cx="119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presistent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46483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5257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49640" y="4724280"/>
            <a:ext cx="148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presistent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9092000">
            <a:off x="3095640" y="3990600"/>
            <a:ext cx="1515960" cy="239760"/>
          </a:xfrm>
          <a:prstGeom prst="rightArrow">
            <a:avLst>
              <a:gd name="adj1" fmla="val 0"/>
              <a:gd name="adj2" fmla="val 1696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3839600">
            <a:off x="4547880" y="4004640"/>
            <a:ext cx="1338120" cy="239400"/>
          </a:xfrm>
          <a:prstGeom prst="rightArrow">
            <a:avLst>
              <a:gd name="adj1" fmla="val 0"/>
              <a:gd name="adj2" fmla="val 149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 Design Concepts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1400" y="993600"/>
            <a:ext cx="60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iagram: Classes in package Request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9347-635E-4889-8F45-BD3B79AA81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verview of Patt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tern addresses a recurring design problem that arises in specific design situations, and presents a solution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architectural patte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es a fundamental structural organization schema for software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design patte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s a scheme for refining the subsystems or components of a software system, or relationships between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idi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low-level pattern specific to a programming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DDC-2F16-4346-A75C-9980E321AE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name (and aliases) and short summ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al-world example demonstrating the existence of the problem and the need for the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situations in which the pattern may app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problem the pattern addresses, including a discussion of its associated fo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the fundamental solution principle underlying the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E61-E2C6-4030-8749-4451BD953D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 Description c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detailed specification of the structural aspects of the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ynam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ypical scenarios describing the run-time behavior of the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guidelines for implementing the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brief description of variants or specialization of a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nown 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os and c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832-6742-4C13-ACE2-73FBBDF183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ipe and Fil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chitectural patte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ovides a structure for systems that process a stream of data.  Each processing step is encapsulated in a filter component. Data is passed through pipes between adjacent fil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pl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ocessing data str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You are building a system that must process or transform a stream of input data.  Implementing such a system as a single component may not be feasible for several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E1F-C5C9-46EA-A0C8-DFC8E4249E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 Example c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has to be built by several develop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lobal system tasks decomposes naturally into several processing stag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quirements are likely to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ipe and Filter architectural patterns divides the task of a system into several processing ste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teps are connected by the data flow through the system – the output data of a step is the input to the subsequent ste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ing step is implemented by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3B3-A231-4E49-B6CF-43DDDA319A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System Design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design result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st of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design go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describes qualities of system the developers should optim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Software archite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describ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ystem decomposition in terms of responsibilities, dependencies, mapping to h/w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olicy decisions such as control flow, access control, and data sto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642-CD41-49E2-A9EE-0D5D37BB20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 Example c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lter consumes and delivers data incrementally to achieve low latency and enable real parallel proc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put to the system is provided by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as a text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put flows into a data sink such as a file, terminal, animation program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 source, the filters and the data sink are connected sequentially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ipe implements the data flow between adjacent processing ste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quence of filters combined by pipes is called a process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pe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AC3-8F26-4841-B316-E9244716709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 Example c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752480"/>
            <a:ext cx="3200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1752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2209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6840" y="1752480"/>
            <a:ext cx="67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2160" y="2209680"/>
            <a:ext cx="1792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s input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s a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its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s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69080" y="1763640"/>
            <a:ext cx="133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llabo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1752480"/>
            <a:ext cx="3200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752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2209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640" y="17524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19240" y="2209680"/>
            <a:ext cx="1632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ers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ffers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chroniz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 neighbo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36160" y="1763640"/>
            <a:ext cx="133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llabo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4038480"/>
            <a:ext cx="3200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4495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7320" y="4038480"/>
            <a:ext cx="12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4440" y="4495680"/>
            <a:ext cx="186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s inpu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pipe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21360" y="4049640"/>
            <a:ext cx="133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llabo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3962520"/>
            <a:ext cx="3200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39625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4419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99160" y="3962520"/>
            <a:ext cx="10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97360" y="4419720"/>
            <a:ext cx="164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s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12480" y="3973680"/>
            <a:ext cx="133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llabo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BC9-E45B-4BDE-8F20-0831EEC80B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 Example c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enario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(give an example use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lement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(not required for home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ari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ee and join systems i.e., filters with more than one input and/or more than one out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nown 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UNIX, CMS Pipelines (IBM 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equ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termediate files necessary, but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 by filter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30E0-086C-4FC8-8815-9D0D802D05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System Design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ecomposing the system you must add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/w and s/w mapp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of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between no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 provided by of existing s/w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of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 COTS (Commercial Of The Shelf) components e.g. GUIs, DBM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7F1-B9DB-4314-9E6B-0C9402AB0B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System Design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of data (l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C8C-BB51-4A9D-8AFD-9DF3B1F600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 of System Design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of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system – event-dri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 vs. sequ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shu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al conditions (detection and hand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390-664D-49FC-B870-290BC6A856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 Design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Subsystems and cla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sub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well defined s/w component that provides a number of services to other subsystems.  E.g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subsystem -  manages persist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terface subsystem – manages the interaction with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 subsystem – manages the communication with other subsystems over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5CD-9E37-4B5F-A214-F16507F6FE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stem Design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compon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hysical and replaceable part of a system that conforms to and provides the realization of a set of interfaces. (Booch et a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PLs provide constructs for modeling sub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–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- name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– use of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 -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cal -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BD8-28ED-4559-9D95-E9A61E0767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Services and Subsystems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system is characterized by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provide to other sub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system should provide an interfac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ystem inte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at identifies the operations available to other sub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ing the subsystem interface forces the designer to focus on the services provided by the subsystem rather than its imple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ystem Design Concepts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5 - 10/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F02-EE04-4831-BF5E-64235EB427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2:56Z</dcterms:created>
  <dc:creator>clarkep</dc:creator>
  <dc:description/>
  <dc:language>en-US</dc:language>
  <cp:lastModifiedBy>clarkep</cp:lastModifiedBy>
  <dcterms:modified xsi:type="dcterms:W3CDTF">2004-10-19T23:56:02Z</dcterms:modified>
  <cp:revision>602</cp:revision>
  <dc:subject/>
  <dc:title>Slide 1</dc:title>
</cp:coreProperties>
</file>