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473-3D51-4E1B-A814-51B24A10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8FF-B8EB-4D08-8100-B4BB96E3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F54-2BC9-441E-82CC-5A915959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B5C-0548-41E3-AE03-7071D86C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72E-7B49-4DF6-B5FD-39809D34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370-A24C-4E3A-B0AA-3AFF5BC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D2E-F1FD-4C37-B91F-AD8B495C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E44-8740-4E25-9405-75411BE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BE4-532A-4635-AC8E-CE98896C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063-F93A-4235-AF6C-9AE7762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858-F67B-4305-913B-5A3F7A1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C4D-D6E3-49F3-8C0A-A6850CA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3466-39CF-4D93-914D-9A67F9BB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77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Data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16 – 10/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2520" y="4876920"/>
            <a:ext cx="819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rom this point on you should only be wor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th the 4 or 5 use cases that your team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mp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Activitie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Subsystems and Mapping Subsystems to Processors and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and Storing Persist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cces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the Global 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ing the System Desig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252-3CE9-420A-8B59-1F9B474AE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- Identifying Subsystem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subsystems is a volatil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objects identified in one use case into the same subsystem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always wor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edicated subsystem for objects used for moving data among sub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number of associations crossing subsystem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bjects in the same subsystem should be functional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82E-ED10-4214-B785-D81F9C955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dentifying Subsystem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terns can support the identification of the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dentify the software architecture then use the design patterns for further refin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(3) types of design patterns (Gamma et e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helps make a system independent of how its objects are created, composed, and represented.  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tract Factory, Builder, Factory Method, Prototype, Single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311-1BA5-4D8F-AE8C-6AFAF5A988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dentifying Subsystem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ncerned with how classes and objects are composed to form larger structures.  Use of inheritance to compose interfaces or implementations.  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apter, Bridge, Composite, Decorator, Façade, Flyweight, Pro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ncerned with algorithms and the assignment of responsibilities between objects.  Also describes patterns of communication between objects or classes.  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n of Responsibility, Command, Interpreter, Iterator, Mediator, Memento, Observer, State, Strategy, Template Method, Vis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ill revisit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911-16C9-4D57-BEC4-CD61D9D7C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L Deployment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depict the relationship among run-time components and hardware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 self-contained entities that provide services to other components or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e represented by boxes containing component ic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ies represented by dashed arro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ACC-86D6-4ABF-9FE6-7A1F43F1E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L Deployment Diagram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371600"/>
            <a:ext cx="2057400" cy="14479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13372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Saf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438280"/>
            <a:ext cx="30492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286000"/>
            <a:ext cx="30492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6560" y="17524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yMac: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657600"/>
            <a:ext cx="2438280" cy="14479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419720"/>
            <a:ext cx="14475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I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724280"/>
            <a:ext cx="30492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4572000"/>
            <a:ext cx="30492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080" y="40384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C: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447920"/>
            <a:ext cx="2590560" cy="1447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2096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We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514600"/>
            <a:ext cx="30492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362320"/>
            <a:ext cx="304920" cy="7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2560" y="18288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Unix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505320"/>
            <a:ext cx="2743200" cy="1447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4267080"/>
            <a:ext cx="1676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572000"/>
            <a:ext cx="30456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4419720"/>
            <a:ext cx="304560" cy="7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8880" y="3886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Unix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2286000"/>
            <a:ext cx="281916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38280" y="2590920"/>
            <a:ext cx="251460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4864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 deployment diagram: Web browsers on PCs and Macs can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bServer that provides information from a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0CE-8706-45D3-A3D2-2B978A74C6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pping Subsystems to Processors and Component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llocate subsystems to computers and design the infrastructure for supporting communication between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run on many computers and depend on access to an intranet or to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mputers can provide high-performance needs by interconnecting multiple distribu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lso select the virtual machine (VM), includes the OS, and any s/w components needed e.g. DB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E8C-3B41-46E4-9FEC-7BE6BF800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– Persistent Data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data outlive the execution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nd how data is stored in the system impacts system decomposition e.g., repository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(3) realistic options for storage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Fla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Relation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Object-orient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6E4-97AD-4A3C-975D-64E559D39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ersistent Data con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f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orage abstractions provided by the operating system.  Application takes care of many issues e.g., concurrency, synchronization, security, recovery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ata stored in tables that comply with a predefined typ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Mapping complex data to relational database causes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milar to relational database but stores data as objects and associations.  Provides all the structural features of OO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625-C1EB-4F08-9666-96531181A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– Access Contro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multi-user systems different users have different functionality an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uring analysis this is modeled by associating different use cases to different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eed to identify objects shared between actors and define the control access right for each 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del access on classes using an access matrix.  Three different approaches: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global access, access control list,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749-DEE9-44A7-BDC3-7E2C7B6A0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– Desig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design goals is the first step of system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goals are inferred from the nonfunctional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goals are organized into the following groups: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formance, dependability, cost, maintenance, and end user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 the speed and space requirements imposed on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641-C3A8-48A2-BF6F-0ED350054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Control con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lobal access tabl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represents explicitly every cell in a  matrix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ctor, class, operation).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ecking access requires a table look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ccess control lis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associates a lis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ctor, operation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pairs with each class to be accessed. 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(See example in text P. 2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pabi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associa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lass, operation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pair with an actor.  Provides an actor with control access to an object of the class described in the capability.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(See example in text P. 2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C50-3A24-4CE7-8E0C-8CBBACF2DE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Control con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cess matrix represents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tatic access contro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ynamic access contro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ocates access rights dynamically. This type of control can be implement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proxy patter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Protection prox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controls access to the original object .  Useful when objects should have different access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rocess of verifying the association between the identity of the user or subsystem and the system is called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authentic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03F-ED22-498D-B7C0-B85C4AFB8D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Control con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uthentication mechanism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user nam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nd corresponding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passwor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only known to the system and stored in an access control li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ystem encrypts user passwords to prot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at is encry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te some network protocols, such as TCP/IP, are not sec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2CB-ECF5-4038-901F-B305896BF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– Global Control Flow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ontrol flow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s the sequence of actions in a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trol flow is a design problem.  Note every object does not have the luxury of running on its own proces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ree possible control flow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Unicode MS"/>
              </a:rPr>
              <a:t>Procedure-drive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Unicode MS"/>
              </a:rPr>
              <a:t>Event-drive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Unicode MS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74E-4169-4BE8-A83E-47073C1222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 Design – Global Control Flow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rocedure-driven contro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Traditional mode of operation i.e., wait for input then perform some ope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vent-driven contro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main loop waits for external event.   When event occurs it is dispatched to the appropriat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reads (lightweight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– system creates threads, each responding to a different event.  Note too many threads can slow the system down.  Also debugging threaded systems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300-15E0-489C-9CD8-09FB69DAD6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lobal Control Flow con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e threaded systems usually require some form of synchro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 Unicode MS"/>
              </a:rPr>
              <a:t>Command patter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useful when designing control flow of ev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interactive systems, it is desirable to execute, undo, or store user request without the content of the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Unicode MS"/>
              </a:rPr>
              <a:t>Use at least two design patterns in your project.  </a:t>
            </a:r>
            <a:r>
              <a:rPr b="1" i="1" lang="en-US" sz="3200" spc="-1" strike="noStrike">
                <a:solidFill>
                  <a:srgbClr val="0066ff"/>
                </a:solidFill>
                <a:latin typeface="Arial Unicode MS"/>
              </a:rPr>
              <a:t>Command, Singleton, Façade</a:t>
            </a:r>
            <a:r>
              <a:rPr b="1" lang="en-US" sz="3200" spc="-1" strike="noStrike">
                <a:solidFill>
                  <a:srgbClr val="0066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668-485C-4D2C-BC60-01588DE09E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ability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much effort should be expended in minimizing system crashes and their consequ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cost to develop the system, to deploy it, and to administe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difficult it is to change the system after deploy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user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qualities from a users’ point of view and not yet covered under the performance and dependa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D22-2015-4C6D-B288-1181E3979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003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erformance Crite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fin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soon is the user request acknowledged after the request has been mad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p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 tasks can the system accomplish in a fixed period of tim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space is required for the system to run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D23-C90A-40BD-AF50-2192BF81F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71600"/>
          <a:ext cx="8229600" cy="457200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pendability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survive invalid user inp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specified and observed behavi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time the system can be used to accomplish normal tas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 tole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operate under erroneous condi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withstand malicious attack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not endanger human lives, even in the presence of errors and fail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480-0BCE-4B31-8458-66B2F0A5C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371600"/>
          <a:ext cx="822960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st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development the initial syst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installing the developed system and training us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translating data from previous system.  Results in backward compatibil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required for bug fixes and enhancements to the syst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required to administer the syst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3F-5AB2-4C38-985C-D7E8CDBF8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990720"/>
          <a:ext cx="8229600" cy="494028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intenance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adding functionality or new classes of the syst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changing current system functional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porting the system to different application domai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porting the system of different platform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understanding the system documentation and co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ability of requir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mapping the code to specific require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ECF-BD80-4761-8999-3B4ABADEE3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828800"/>
          <a:ext cx="8229600" cy="228600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d user Crite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fin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ell does the system support the work of the user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easy it is for the user to use the system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1AE-7492-4F89-B1B7-CBAB334BE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ign Goal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371600"/>
          <a:ext cx="8229600" cy="448164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de-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t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 vs.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memory =&gt; reduction in speed i.e., caching, more redundancy, data compress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time v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 on if software is for COTS or no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, fierce competition in cell phone marke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time vs.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is time consuming.  Deliver with bugs then release fixes.  E.g., ?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time vs. staff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add more resources early in the project.  Note, more staf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&gt; increase productiv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6 - 10/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FCC-EBF9-4B2E-A802-8327DCD44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0-22T00:06:51Z</dcterms:modified>
  <cp:revision>650</cp:revision>
  <dc:subject/>
  <dc:title>Slide 1</dc:title>
</cp:coreProperties>
</file>