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B42-CA95-4536-897E-9E6E77F7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9537-C09F-4112-8BBD-D1164817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36A-F109-4018-9767-B23A058C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554-DDE1-49C7-9BB4-9BAEE86B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D4CF-C905-4A17-8129-0E0E5606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C2B-F37D-451A-A706-C88A0A6F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D03-C367-41A2-ADC1-F4BD402E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CD51-6D09-4AE1-BBF4-FE180D12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5F0-7F2A-476E-9B84-D5FB7E11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56C-B185-4223-B861-87B7E51B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781-820A-41D4-ACDE-877F8F19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7C4-DC46-4C75-8AF7-63618407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B66C-3887-4E26-AF06-B15DC9C02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2057040"/>
            <a:ext cx="6705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Design: Reuse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Desig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Patterns – Command, Singl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1160" y="22860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 4010 Class 17 – 10/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6200" y="5181480"/>
            <a:ext cx="819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rom this point on you should only be wor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with the 4 or 5 use cases that your team w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implement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class Nov. 16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use Concept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bject design we refine and detail both application and solution objects.  Additional objects are often requ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. inheritance and implem. inheri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analysis inheritance was used to classify objects based on common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er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 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– objects with general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rived 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objects with specialized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56D-FA0B-407A-875C-87702BE9BE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use Concept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f inheritance in object design is to reduce redundancy and enhance extensi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. 8.3 P. 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ing all redundant behavior into a single superclass reduces the risk of inconsistencies when changes are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abstract classes and interfaces allows for extensibility i.e., new specialized behavior can be written in new sub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B26-22D5-4D69-9237-0C5D44595D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use Concept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is a powerful mechanism and should be carefully considered before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re is usually strong coupling between classes in the inheritance hierarc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 of inheri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inheri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ole purpose of reus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ation inheritance (or interface inheritan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lassification of concepts into type hierarch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3CD-A461-4EC4-A795-A257614D68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use Concept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gation is an alternative to implementation inheritance that should be used when reuse is des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is said to delegate another class if it implements an operation by resending a message to anoth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gation makes explicit the dependencies between the reused class and the new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1116-8533-4E74-9AE4-8A38B1EBC1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use Concept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able mechanism to implementation inheritance as it does not interfere with existing components and leads to more robust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ation inheritance is preferable to delegation in subtyping situations as it leads to a more extensible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kov Substitution Princi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object of typ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substituted in all places where an object of typ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xpected the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type o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ict inheri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5A2-CA57-4D40-89E1-18FA0246D8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use Concept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yp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lasses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haviorally compat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he supercla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class should at least have the same interface as its ancesto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 superclass here represents a subset of the behavior common to all subclass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ly occurs if the inheritance performs only an extension, rather than overriding something that is already defined in the superclas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B8D-9F1D-466E-960D-1E850003E6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use Concept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lass is no longer behaviorally compatible with the superclass, if the operations and/or information structure have been redefined or del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subtyping for implementing inheritance (specification inheritan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0D93-F255-42E1-9F1E-48B8DDF9EA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use Activities - Design Patt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 of delegation and inheritance in conjunction with abstract classes decouples the interface of a subsystem from its actual implem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a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design patte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s a scheme for refining the subsystems or components of a software system, or relationships between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s considered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dge, Adapter, Strategy, Abstract Factory, Command, Composit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1ED4-D1EA-40F8-81D4-6741235581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use Activities - Design Patt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Command Patte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.4 P. 6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 descrip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apsulates requests so that they can be executed, undone, or queued independently of the requ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omm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stract class declares the interface supported by 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creteComma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creteComma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apsulate a service to be applied to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ei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eat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creteComma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binds them to specific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eiv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 Invoker actually executes or undoes the comman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21A-864F-41BE-93DB-E860E53F14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use Activities - Design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19051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vo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1731960"/>
            <a:ext cx="1523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218916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5520" y="1828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1120" y="22860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u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038480" y="20574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981080"/>
            <a:ext cx="3808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3581280"/>
            <a:ext cx="2438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4038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73680" y="36576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oncreteComman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3040" y="41148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u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581280"/>
            <a:ext cx="1523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4038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51760" y="36781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75440" y="411480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2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7432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4952880"/>
            <a:ext cx="2438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5410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21240" y="50292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oncreteComman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80600" y="54864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u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32004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2646360"/>
            <a:ext cx="15228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200040" y="3733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99320" y="3352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&lt;binds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320" y="21337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vo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191120"/>
            <a:ext cx="3048120" cy="990360"/>
          </a:xfrm>
          <a:custGeom>
            <a:avLst/>
            <a:gdLst/>
            <a:ahLst/>
            <a:rect l="l" t="t" r="r" b="b"/>
            <a:pathLst>
              <a:path w="1920" h="624">
                <a:moveTo>
                  <a:pt x="1920" y="624"/>
                </a:moveTo>
                <a:lnTo>
                  <a:pt x="576" y="624"/>
                </a:ln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3200400"/>
            <a:ext cx="914400" cy="609480"/>
          </a:xfrm>
          <a:custGeom>
            <a:avLst/>
            <a:gdLst/>
            <a:ahLst/>
            <a:rect l="l" t="t" r="r" b="b"/>
            <a:pathLst>
              <a:path w="576" h="384">
                <a:moveTo>
                  <a:pt x="0" y="0"/>
                </a:moveTo>
                <a:lnTo>
                  <a:pt x="0" y="384"/>
                </a:lnTo>
                <a:lnTo>
                  <a:pt x="576" y="384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6800" y="80172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: Structure of Command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C26-5A0C-4A94-BB17-E20C7F4741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of Object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 the analysis and system design mod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gap between the application objects and CO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custom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ment of COTS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specification of each subsystem interface and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 object model into sets of classes to be implemented by individual develo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ACF-CA9D-4DDE-BF95-131FB10D22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use Activities - Design Patt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seque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of the command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ei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the algorithm of the command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creteComm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decoup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vo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hielded from specific comm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creteComma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objects.  They can be created and st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creteComma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added without changing existing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83BF-AE26-4508-A886-D676456C66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use Activities - Design Patt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nd undo stack for user commands:  All user-visible commands are refinements of th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omm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stract class.  Each command is required to implemen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(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ndo(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do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.  Once a command is executed, it is pushed onto the an undo stack.  If the user wishes to undo the last command, th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omm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on the top of the stack is sent the messag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ndo(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P. 699 for other ex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63C-1EEB-4CC4-9096-04FF53C468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280" y="339840"/>
            <a:ext cx="42674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interface Command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abstract void execute ( 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LightOnCommand implements Command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vate Light myLigh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LightOnCommand ( Light L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Light  =  L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void execute( 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Light.turnOn( 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LightOffCommand imp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and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vate Light myLigh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LightOffCommand ( Light L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Light  =  L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void execute( 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Light.turnOff( 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152280"/>
            <a:ext cx="40388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Light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void turnOn( 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ln("Light is on "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void turnOff( 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ln("Light is off"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class TestCommand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   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ght  testLight = new Light( 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and test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args.length = =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       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L = new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ghtOnCommand(testLight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        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L = n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ghtOffCommand(testLight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   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L.execute(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52280"/>
            <a:ext cx="426744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152280"/>
            <a:ext cx="4114800" cy="609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8C8-34E7-4277-B097-72856EBDB4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use Activities - Design Patt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Singleton Patte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O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 descrip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sures a class only has one instance, and provide a global point of access 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lu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e the operation that creates the instance behind a class operation (that is, either a static member function or a class method) that guarantees only one instance is created.  This approach ensures that a singleton is crested and initialized before its first use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also create singletons with subclasses (see GO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6360-9405-43E6-86C9-4029CC625C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use Activities - Design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19051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vo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1731960"/>
            <a:ext cx="3047760" cy="253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2520" y="1752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ngle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77160" y="312408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stanc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ngletonOperatio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SingletonData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432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8640" y="21337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vo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880" y="8017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: Structure of Singleton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2209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4160" y="2286000"/>
            <a:ext cx="30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unique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ngleto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30481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4880" y="5029200"/>
            <a:ext cx="60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ic Instanc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queInst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24F-5CB2-4024-A642-F896F7C925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euse Activities - Design Patt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seque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access to instance: strict control over how and when clients access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name space: avoids polluting the name space with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s refinement of operations and representation: Singleton class may be subcla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s a variable number of instances: use a similar approach to control the number of instances that the application 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6CD-A70E-4898-A537-E869CEB95E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use Activities - Design Patt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lexibility than class operations: can use static operations, however difficult to design, also may prevent overriding and polymorph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the instance method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un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in Java , you must obtain a reference to the so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un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by using a static method of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arts of an application must use the sa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urity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. The unique instance is accessed through a static method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views user interface toolkit uses the Singleton pattern to access the unique instance of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idget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FF4-7E27-425E-96DA-85E98AEDB5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280" y="152280"/>
            <a:ext cx="434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Singleton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The constructor could be made 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to prevent others from instantiating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class. But this would also mak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impossible to create instanc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Singleton subclas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ed Singleton( ) { // ... }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A handle to the unique Single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inst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private Singleton _instance = null;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152280"/>
            <a:ext cx="434340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152280"/>
            <a:ext cx="411480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304920"/>
            <a:ext cx="396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@return The unique instance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cla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public Singleton instance( 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 null = = _instanc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instance = new Singleton( 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_instan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. ...additional methods omitted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8519-F627-4BDF-B5BD-ED7EEA0B3D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Design includes four groups of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1. Component sel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components identified during system design to realize each sub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class libraries and additional components for basic data structures and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74E4-3B79-486D-8903-480C344F0C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2. Service specif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subsystems services (identified during system design) in terms of class interfaces, including operations, arguments, type signatures and excep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,missing operations and objects needed to transfer data among sub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is the complete interface specification for each sub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cc00"/>
                </a:solidFill>
                <a:latin typeface="Arial"/>
              </a:rPr>
              <a:t>For project specify only those subsystems you will be implemen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267-E3E4-4FC0-AEAE-073F058E93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3. Restructu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te the system model to increase code reuse or meet other design goals, i.e. incorporate the use of design patterns e.g. the command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inclu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ing n-ary associations to binar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binary associations as referenc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ing two similar classes from two different subsystems into a single clas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F5C-BF14-41E6-A3E2-6509070796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psing classes with no significant behavior into attribut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ting complex classes into simpler o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rranging classes and operations to increase the inheritance and packa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restructuring design goals are address e.g., maintainability, readability, and understandability of the system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FEB-F077-45DB-8518-BE761DED2F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Opti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s performance requirements i.e., changing algorithms, reducing multiplicity in associations, and adding derived attributes to improve the access to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ur activities above occur concurr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object design is more complex than analysis or system design due to large number of objects and developers, the high rate of change, and the # of concurrent decision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7C3F-3C62-443B-91BA-05FD2A8810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bject Design: Reuse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bjects vs. solution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bjects represent concepts of the domain that the system manipul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objects represent support components that do  not have a counterpart in the application domain, e.g., GUIs, DBM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object design additional objects are ident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4EF-E04E-44EA-9F2E-EA225C8CE8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use Concept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during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objects, their relationships, attributes, and operations wer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entity objects are application objects that are independent of any specific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objects such as, boundary and control objects were ide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system design additional solution objects were identified in terms of s/w and h/w platfo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7 - 10/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0F3-6534-4D07-BCEB-1AFA0F5958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2:56Z</dcterms:created>
  <dc:creator>clarkep</dc:creator>
  <dc:description/>
  <dc:language>en-US</dc:language>
  <cp:lastModifiedBy>clarkep</cp:lastModifiedBy>
  <dcterms:modified xsi:type="dcterms:W3CDTF">2004-10-26T23:59:58Z</dcterms:modified>
  <cp:revision>680</cp:revision>
  <dc:subject/>
  <dc:title>Slide 1</dc:title>
</cp:coreProperties>
</file>