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AF62-CE61-42E9-A98B-CF8ED5FDC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08D3-F701-44E1-A12B-8CE628A50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2421-AB5A-42BE-8726-E76867001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00DA-05C1-4073-A3E8-88226D6D4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3BF8-F3A7-4113-9566-3147E445A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3FC7-A86B-4E49-8F96-4AAC107D6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98F5-4C50-4665-970F-2B310070B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971D-DD9D-42C2-982F-DEA255C3A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CFC4-BFA5-4163-A287-80D26F3D4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7742-81DE-4938-9DF1-73243AD0C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D28A-6704-4406-A6B8-CA84588A0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200B-9DB3-4C72-85E3-AA28BA00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CC723-470E-41E0-B868-BE2C551EA3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9144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Object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2742840"/>
            <a:ext cx="64771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Design Patt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 Constraint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 Design Specifying Interf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Exam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41160" y="228600"/>
            <a:ext cx="459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 4010 Class 18 – 10/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oncepts co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27080" indent="-568440"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0066ff"/>
                </a:solidFill>
                <a:latin typeface="Comic Sans MS"/>
              </a:rPr>
              <a:t>postcondition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 is a predicate that </a:t>
            </a:r>
            <a:r>
              <a:rPr b="1" i="1" lang="en-US" sz="2800" spc="-1" strike="noStrike">
                <a:solidFill>
                  <a:srgbClr val="0066ff"/>
                </a:solidFill>
                <a:latin typeface="Arial"/>
              </a:rPr>
              <a:t>must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 be true after an operation is invok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789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conditions are associated with a specific op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789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conditions are used to specify constraints that the object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must ensure af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invocation of the op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789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After 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a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y not be empty, its top is the element just pushed, and its number of elements bas been increased by 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18 - 10/2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8169-3CDB-4591-826D-E5DFF9592A8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oncepts co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econdition is 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blig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the client (caller) and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enef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the supplier (calle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ostcondition is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enef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the client and 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blig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the suppli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variants of all the parents of a class apply to the class itsel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peration re-declaration (in a derived class) may only replace the original precondition by on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qual or wea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the original postcondition by on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qual or stron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18 - 10/2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7A6B-76EF-4833-AB58-FBC5605A918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Object Constraint Language (OC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L is a language that allows constraints to be formally specified on single model elements (e.g., attributes, operations, classes) or groups of model elements (e.g., associations and participating classe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text P. 355 – 36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Comic Sans MS"/>
              </a:rPr>
              <a:t>Note for the project we will write invariants, preconditions and postconditions in OC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18 - 10/2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12ED-9F4C-49E9-86D4-52EC998F57E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OCL co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84582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ontext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Tournament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v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elf.getMaxNumPlayers() &gt;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ontex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keyword indicates the entity to which the expression app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v, pre, po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rrespond to invariant, precondition, and postcondition respectivel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comes the OCL expression, syntax is similar to OO P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OCL cannot denote control fl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18 - 10/2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A118-0BBE-4E7C-884C-913F8DEF845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OCL co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84582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tex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Tournament::acceptPlayer(p)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!isPlayerAccepted(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tex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Tournament::acceptPlayer(p)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os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sPlayerAccepted(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tex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Tournament::acceptPlayer(p)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os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NumPalyers() = @pre.getNumPlayers()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@pre.getNumPlayers(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otes the value returned b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e.getNumPlayers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fore invok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cceptPlayer(p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@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notes value af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18 - 10/2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53C9-D2A2-4C84-83FF-09B864BE15D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oncepts co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ff"/>
                </a:solidFill>
                <a:latin typeface="Arial"/>
              </a:rPr>
              <a:t>For the project state the invariants, pre and post conditions for the classes you will be implementing using OCL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ff"/>
                </a:solidFill>
                <a:latin typeface="Arial"/>
              </a:rPr>
              <a:t>Note</a:t>
            </a:r>
            <a:r>
              <a:rPr b="0" i="1" lang="en-US" sz="2800" spc="-1" strike="noStrike">
                <a:solidFill>
                  <a:srgbClr val="0066ff"/>
                </a:solidFill>
                <a:latin typeface="Arial"/>
              </a:rPr>
              <a:t> these assertions should be traceable to the use case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ff"/>
                </a:solidFill>
                <a:latin typeface="Arial"/>
              </a:rPr>
              <a:t>Use “notes” to show constraints in your class diagrams.  DO NOT CLUTTER you class diagr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ff"/>
                </a:solidFill>
                <a:latin typeface="Arial"/>
              </a:rPr>
              <a:t>Use the example in Fig 9.5 as a guide when writing the assertions for your project</a:t>
            </a:r>
            <a:r>
              <a:rPr b="0" i="1" lang="en-US" sz="2800" spc="-1" strike="noStrike">
                <a:solidFill>
                  <a:srgbClr val="00cc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18 - 10/2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7F9F-C001-4D84-A1BD-17A7C2511A3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Object Design: Specifying Interfa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1760" y="1218960"/>
            <a:ext cx="746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specification activities of object design includ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ing missing attributes and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ying type signatures and vi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ying invari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ying preconditions and post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18 - 10/2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E1D0-1EF9-40E3-9A6C-CDD93AC2ADF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Overview Specifying Interfa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ing missing attributes and oper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sing operations can be identified and added to the class diagram during construction of the sequence diagram in Rational Ro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is stage the attributes not evident in the analysis or system design should become evid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ttributes should be private or protected (inheritanc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ying type signatures and visibi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ttributes and operations should be assigned a visibility specifier.  Note UML uses the Ada/Pascal approach to specify the signatures of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18 - 10/2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7322-2E8E-4EF4-A99D-D5224465319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Overview Specifying Interfaces co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ying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7520" indent="-533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aints include invariants, pre and post condi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ying exce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7520" indent="-533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ption conditions are usually associated with the violation of preconditions.  You should also check the class invariant after any operation that can change its va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18 - 10/2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FF48-4223-4F6D-99F5-01471324DDC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Exam 2 Review Top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s: software architecture, component, subsystem, cohesion, coupling, contracts, defensive programming, invariant, precondition, postcondi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Design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7520" indent="-533160"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as to address during system design – h/w and s/w mapping, data management, access control, control flow, boundary condition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18 - 10/2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FEEA-2152-418A-BABB-728F7281669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Other Design Patter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rid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decouples the interface of a class from its implement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ap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encapsulates a piece of legacy code that was not designed to work with the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rateg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decouples an algorithm from its implementation(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bstract Facto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encapsulates the creation of families of related objects.  Shields the client from the creation process and prevents the use of objects from different (incompatible) familie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18 - 10/2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A960-7C1C-495D-9EB6-D959330812A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Exam 2 Review Top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Design  co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7520" indent="-533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goals – know dependability criteria and maintenance criteri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17520" indent="-533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s of patterns: architectural, design, idiom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17520" indent="-533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familiar with the following architectural patterns: client/server, three-tier, four-tier, repository, pipe and fil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 Design: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7520" indent="-533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 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17520" indent="-533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nent se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17520" indent="-533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uctu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18 - 10/2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6EFE-776C-49F9-B9A4-CAA257CAB00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Exam 2 Review Top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 Design: activities c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7520" indent="-533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17520" indent="-533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patterns: should be able to write Java code for the command and singleton patter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familiar with models used in system and object design e.g. class diagrams and sequence diagrams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 how to apply parts (2) – (5) above to a real exam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18 - 10/2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F578-D030-48A5-9364-307E44268E0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Other Design Patterns co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m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decouples the objects responsible from command processing from commands themselves.  Protects these objects from changes due to new functiona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posi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encapsulates hierarchies by providing a common superclass for aggregate and leaf nodes.  New types of leaves can be added without modifying existing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18 - 10/2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EFFC-50CE-4EE0-B2D1-1C7CFB4FD4D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Other Design Patterns co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ing the correct design pattern for a given problem is not easy unless you already have some experience in using design patter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associated with design patter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 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Comic Sans MS"/>
              </a:rPr>
              <a:t>Framewor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a set of classes providing a general solution that can be refined to provide an application or a sub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18 - 10/2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43C2-46CA-4C84-8DB9-85E03A2524E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Other Design Patterns co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meworks focus on reuse of concrete designs, algorithms, and implementations in a particular programming langu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meworks focus on a particular application dom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 libraries are less domain specific and provide a smaller scope of reu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 libraries are typically passive i.e., they do not implement or constrain the control fl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18 - 10/2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0C6E-57DD-40A2-B7E0-104077FE0C1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Object Design Concep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signatures and vi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object design the system model is refined by adding types and visibi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atur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ibility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3 levels of visibil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is visibility done in Eiffel?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Me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18 - 10/2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836C-C8A4-4144-9E9A-C9508E0A604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oncepts co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acts: Invariants, Preconditions, Postcondi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Comic Sans MS"/>
              </a:rPr>
              <a:t>Contracts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 are constraints on a class that enable caller and callee to share the same assumptions about the class </a:t>
            </a:r>
            <a:r>
              <a:rPr b="0" i="1" lang="en-US" sz="2800" spc="-1" strike="noStrike">
                <a:solidFill>
                  <a:srgbClr val="0066ff"/>
                </a:solidFill>
                <a:latin typeface="Arial"/>
              </a:rPr>
              <a:t>(Meyer ’97)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ntract specifies constraints that the caller must meet before using the class as well as constraints that are ensured by the callee when us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18 - 10/2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E4E6-C0D6-4220-AC1C-D6D68FFD149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oncepts co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Comic Sans MS"/>
              </a:rPr>
              <a:t>Design by contra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views the relationship between a class and its clients as a formal agreement, expressing each party’s rights and obligation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Meyer ’97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Comic Sans MS"/>
              </a:rPr>
              <a:t>Defensive programming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An </a:t>
            </a:r>
            <a:r>
              <a:rPr b="1" lang="en-US" sz="2800" spc="-1" strike="noStrike">
                <a:solidFill>
                  <a:srgbClr val="0066ff"/>
                </a:solidFill>
                <a:latin typeface="Comic Sans MS"/>
              </a:rPr>
              <a:t>invariant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 is a predicate that is </a:t>
            </a:r>
            <a:r>
              <a:rPr b="1" i="1" lang="en-US" sz="2800" spc="-1" strike="noStrike">
                <a:solidFill>
                  <a:srgbClr val="0066ff"/>
                </a:solidFill>
                <a:latin typeface="Arial"/>
              </a:rPr>
              <a:t>always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 true for all the instances of a clas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ariants are constraints associated with classes o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ariants are used to specify consistency constraints among class attribu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18 - 10/2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F835-0F5E-4FD5-9CEE-20EFB5D2ADA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oncepts co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0066ff"/>
                </a:solidFill>
                <a:latin typeface="Comic Sans MS"/>
              </a:rPr>
              <a:t>precondition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 is a predicate that </a:t>
            </a:r>
            <a:r>
              <a:rPr b="1" i="1" lang="en-US" sz="2800" spc="-1" strike="noStrike">
                <a:solidFill>
                  <a:srgbClr val="0066ff"/>
                </a:solidFill>
                <a:latin typeface="Arial"/>
              </a:rPr>
              <a:t>must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 be true before an operation is invok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onditions are associated with a specific op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onditions are used to specify constraints that a caller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must meet befo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lling an op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y not be called if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ack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ation is fu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rrect system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will nev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ecute a call in a state that does not satisfy the precondition of a called routine?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18 - 10/2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B878-A1C0-432D-B40F-C9EE87775EC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5:22:56Z</dcterms:created>
  <dc:creator>clarkep</dc:creator>
  <dc:description/>
  <dc:language>en-US</dc:language>
  <cp:lastModifiedBy>clarkep</cp:lastModifiedBy>
  <dcterms:modified xsi:type="dcterms:W3CDTF">2004-10-28T23:53:11Z</dcterms:modified>
  <cp:revision>718</cp:revision>
  <dc:subject/>
  <dc:title>Slide 1</dc:title>
</cp:coreProperties>
</file>