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554-7A80-4A06-B62E-87548DE4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CFD-6417-4072-BC0C-D8D02104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EE8-FF45-45B2-A9AA-35334627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2C4-BEE9-43DE-A2A2-6F5A2688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CDD-1941-4A69-8B07-9528BBBB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E7B-F125-4933-803A-F54525EF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D41-7A01-4B87-A9A6-1B0815E5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EFD-22BF-4700-BE55-074E1944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918-3592-4B58-BA72-6E93DF51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96B-78DF-4D6D-8CA7-B2F07032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2E7-6929-40C8-B428-7FD36D4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E5E-D22B-4BB7-BB2D-E1F5BD95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9B79-4289-473F-BBA9-7EECADC71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120" y="2361960"/>
            <a:ext cx="6629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liability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21 – 11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Avoidance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figu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faults caused by undisciplined change in the system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s to find faults before any exec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a mature enough state that it can be applied to assure the quality of large complex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requirements are correct - used to create pre- and post-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B4B-8634-4C1E-95C2-EA5672B9A0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Avoidance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s an operation by showing that if the precondition is true  before the operation and postcondition is true after the operation then the operation is cor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hard to correctly state the pre- and post-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2FE-AD1D-433A-A36D-BE8F85FE13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 det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iques e.g., debugging and testing, are used during the development process to identify erroneous states and find the underlying faults before releasing the 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Detection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090-468B-4B5B-B769-F8E66C452C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inspection of parts of all aspects of the system without actually executing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kthr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veloper informally presents the API, the code and associated documentation of the component to the review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ormal presentation of a walkthrough by a review team, not the develo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0F3-1614-42C2-9A88-E9D9DC2A6A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ult detection technique that tries to create failures or errors in a planned way.  Note a successful test is one that identifies errors i.e., testing demonstrates the presence of errors not their abs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racteristics of a good test model is that it contains test cases that identify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33B-1E52-40AA-9E66-F8A1C4040C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Plan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resources and schedules the testing activity.  Note this activity should occur early in the development phase so that sufficient time and skill is dedicated to the testing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es to find faults in the user interface desig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es to find faults in participating objects and/or subsystems with respect to (w.r.t.) the use cases from the use cas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81F-FB16-4DCE-AC2A-816EA00B06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es to find faults when testing the individually tested components e.g.,, testing subsystems.  This is driven by the subsystem decomposition in the DD and S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s all the components together, seen as a single system to identify errors w.r.t. the scenarios from the problem statement and the goals in the SRD and D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B2B-E86E-4093-9B4A-7E1DF1A95D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Detection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ystem 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the requirements from the SRD, and if available from the user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s nonfunctional requirements and additional goals form the 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ance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ation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 the requirements against the project agreement (SRD) and is done by the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8C2-AE74-43BA-88CD-509A1CD8D8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Tolerance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iques assume that a system can be released with faults and that system failures can be dealt with by recovering from them at run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 system to recover from failure of a component by passing the erroneous state information back to the calling components, assuming one of them knows how to handl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36B-A28E-4274-9C1F-6B822A49C8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Tolerance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 redunda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h/w e.g. 5 onboard computers in shu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-version program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ame spec. implemented by different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 bl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ach block includes a test code and alternativ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EC7-AD36-4726-A00D-AC4B4FEFFA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: 75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: 95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: 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0" y="1371600"/>
          <a:ext cx="4037400" cy="4525200"/>
        </p:xfrm>
        <a:graphic>
          <a:graphicData uri="http://schemas.openxmlformats.org/drawingml/2006/table">
            <a:tbl>
              <a:tblPr/>
              <a:tblGrid>
                <a:gridCol w="2018160"/>
                <a:gridCol w="2019240"/>
              </a:tblGrid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EF6-9023-4075-AADD-64E41F2715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sting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Case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dentifies the test case, it is a good idea to derive the name from the requirement being tested.  E.g., SSLS01_Te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tates the purpose of the test and relates it to the requirement (or scenar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cription of the input data o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ed out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or Orac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xpected test results against which the output of the test is com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out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or lo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utput produced by th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869-99A1-45B8-A75C-5D6A707AB1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sting Concept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if the expected output and actual output differ then a application failure has been detected.  We say that the test has revealed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work required to diagnose and correct a b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debugging is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 typically occurs after a failure has been observed or when a developer identifies a fault by inspection or automatic code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CF9-B1F1-4568-A308-606C3B6C79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sting Concept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you submit the code for your project tha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g-free it should be highlighted in the documentation for the test cases.  You should explain the discrepa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cases are classified depending on which aspect of the system model is tes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bo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cification-based or function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cus on the input/output behavior (or functionality) of the component.  Tests do not deal with the internal aspects of the component nor with the behavior or the structure of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8D9-69E0-4B6D-86C0-11B3180347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sting Concepts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bo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uctural or implementation-bas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cus on the internal structure of the component.  That is, test cases are constructed based on the code that implements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hange to a component whose purpose is to repair a faul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ression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the re-execution of prior tests after a change, this ensures that the functionality that worked before the change has not been aff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0E4-5FB0-4EBE-8CB1-A4B6731B4B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ssignment 3        Due 03/30/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agraph describing each of the following unit testing techniqu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tes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tes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-based tes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low tes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 coverage tes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ne example for each using data from your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technique identify if it is a specification-based or implementation-based testing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038-E24C-4703-8836-74F353163D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Testing - 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Software testing is the process of operating software under specified conditions, observing or recording the results and making an evaluation of some aspect of the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– all artifacts generated during the developmen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EEE/ANSI std 610.12-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171-BA42-4F6C-A32C-326B842475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Testing - 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n activity during which developers find differences between the system and its models by executing the system (or parts of it) with sample input data 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involves unit testing, integration testing, system testing, and usability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success with which the observed behavior of a system conforms to the specification of its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0ED-7074-4137-8C6C-60E86385D7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rminology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ftware rel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bability that a s/w system will not cause the failure of the system for  specified time under specified condi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EEE Std 982-198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s the manifested inability of a system or component to perform a required function within specified limits, i.e., incorrect output or abnormal termination of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efect or bu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s the mechanical or algorithmic cause of a fail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human action that produces a software fault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Binder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012-7F1E-4E46-8675-58D850FF14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rminology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Test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s a set of inputs and expected results that exercises a component with the purpose of causing failures and detecting fa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Test st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partial implementation of a component on which the tested component dep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Test dr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s a partial implementation of a component that depends on the tested component.  i.e., a test driver simulates the tested component’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771-AB9F-4624-B20E-DCC356F857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ftware Reliability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techniques for increasing the reliability of a software syste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71E-FA75-4382-8F79-75A63A23F6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Avoidance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 avoid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try to detect faults statically i.e., without relying on the execution of system models, in particular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Avoidance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618-070D-483C-B5F2-CA41D40F55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ult Avoidance Techniqu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velopment methodolog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mbiguous representation of requiremen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data abstraction and data encapsul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the couple between subsystems and maximizing cohes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ly definition of subsystem interfa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of rationale for maintenance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ability of the use case model i.e., the use case driven approach to softwa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21 - 11/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060-BB2C-412A-8356-EDFAE44B8F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11-09T23:10:03Z</dcterms:modified>
  <cp:revision>714</cp:revision>
  <dc:subject/>
  <dc:title>Slide 1</dc:title>
</cp:coreProperties>
</file>