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CF2-A672-4FF7-9E80-1E7525FC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9B9-793C-4A98-8505-4B8AD5E3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772-4DC6-4465-8521-8535B1F1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453-F5BA-4E7B-A1B5-9CCD15DB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D3E-690D-4A43-8E84-6A038269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A08-CFF5-4877-B526-07C53D89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512-8D77-4D78-8C1D-7322080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EF1-8108-4D7F-87BA-06ECB17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B31-F6B7-4046-AB63-F83CD37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CC6-8573-4853-AF83-A752695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E6A-10B2-403B-9CD0-F22930E4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368-4113-4FE0-8023-B408343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0F89-85EE-4BE4-8A25-961A2E27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120" y="2361960"/>
            <a:ext cx="6629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lass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liability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22 – 11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es to find faults when testing the individually tested components e.g.,, testing subsystems.  This is driven by the subsystem decomposition in the DD and S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s all the components together, seen as a single system to identify errors w.r.t. the scenarios from the problem statement and the goals in the SRD and D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4E3-974F-4E27-AA72-A4C78C0F5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ystem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the requirements from the SRD, and if available from the user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s nonfunctional requirements and additional goals form the 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nce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ation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requirements against the project agreement (SRD) and is done by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1B9-BB5C-4C54-8905-D2DC4F56B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Tolerance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 assume that a system can be released with faults and that system failures can be dealt with by recovering from them at run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system to recover from failure of a component by passing the erroneous state information back to the calling components, assuming one of them knows how to handl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355-641A-4793-B0C0-AD5A57A25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Tolerance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 redunda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h/w e.g. 5 onboard computers in shu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-version progra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ame spec. implemented by different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bl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block includes test code and alternativ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10B-8993-4C1E-BD2A-E47479048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sting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ase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dentifies the test case, it is a good idea to derive the name from the requirement being tested.  E.g., SSLS01_Te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tates the purpose of the test and relates it to the requirement (or scenar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cription of the input data o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ed 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or Orac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xpected test results against which the output of the test is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or lo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utput produced by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FE0-22A9-4765-AA56-F2D4D14FE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if the expected output and actual output differ then an application failure has been detected.  We say that the test has revealed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work required to diagnose and correct a b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debugging is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 typically occurs after a failure has been observed or when a developer identifies a fault by inspection or automatic code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D1A-A99B-4717-BE4B-5C9F39CC3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you submit the code for your project tha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g-free it should be highlighted in the documentation for the test cases.  You should explain the discrepa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ases are classified depending on which aspect of the system model is tes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bo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ation-based or functio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cus on the input/output behavior (or functionality) of the component.  Tests do not deal with the internal aspects of the component nor with the behavior or the structure of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73D-DC8B-4CFA-86D6-DB173BDB9A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bo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uctural or implementation-bas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cus on the internal structure of the component.  That is, test cases are constructed based on the code that implements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hange to a component whose purpose is to repair a faul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the re-execution of prior tests after a change, this ensures that the functionality that worked before the change has not been aff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A89-3B63-4812-B2C7-0F3F4598F7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sting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6248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In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tes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tes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61B-F882-4A72-889E-1F4C85FD51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onent Insp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nspection refer to static validation and verification (V&amp;V) of a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inspections occur during the static analysis of requirements, designs, code, and test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an inspection of a component the review team checks the code and documentation against a list of conc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FFF-CF29-4880-AD0F-3E96084FFB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Testing -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Software testing is the process of operating software under specified conditions, observing or recording the results and making an evaluation of some aspect of th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– all artifacts generated during the developmen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EEE/ANSI std 610.12-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C15-B5CB-4492-8A9E-7D3F7058D3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onent Inspec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onc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n. and use of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 and efficiency of algorithms and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agan IBM 197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– purpose and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– reviewers become familiar with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 meeting – reader paraphrases the source code, inspection team raises issues.  Moderator keeps meeting on t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6C0-8019-4343-A600-9AFCBFCDB6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ponent Inspec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ork – author revises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– moderator checks the quality of the r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step is the preparation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ions are usually considered as time-consu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have been revisions of Fagan’s approach e.g., Parnas and Weiss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2E2-289E-49FE-9ECD-3D66D8022D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sability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finding differences between the system and the users’ expectation of what it should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formulate a set of objectives, e.g., evaluating specific dimensions or geometrical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bjectives are evaluated in a series of experiments e.g., exercising the user interface feature under invest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observe participants and collect data measuring user perform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97A-66DB-47B2-A91F-160BD1E6C5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sability Testing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ypes of usability 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test – users are presented with a visionary scenario of the system.  Developers evaluate how quickly the users are able to understand the sce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test – end users are presented with a piece of s/w that implements key aspects of the syst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prototype – completely implements a use c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prototype – implements a single layer of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est – similar to (2) but actual system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112-CCAB-4436-A357-2EB2A9B28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rminology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a set of inputs and expected results that exercises a component with the purpose of causing failures and detecting fa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 st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partial implementation of a component on which the tested component dep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 d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a partial implementation of a component that depends on the tested component.  i.e., a test driver simulates the tested component’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08C-676F-4C55-B5EF-F5E02F27A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Reliability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techniques for increasing the reliability of a software syste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294-951C-461A-A09E-B18DD6FEA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Avoidance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avoi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try to detect faults statically i.e., without relying on the execution of system models, in particular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Avoidance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FE9-29FB-45B3-9B05-E7B5617B58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det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 e.g., debugging and testing, are used during the development process to identify erroneous states and find the underlying faults before releasing the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Detection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2D9-B8D9-43FB-BA81-C6239A367E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inspection of parts of all aspects of the system without actually executing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kthr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veloper informally presents the API, the code and associated documentation of the component to the review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ormal presentation of a walkthrough by a review team, not the develo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60E-E764-44AF-AE08-0AAA3B323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ult detection technique that tries to create failures or errors in a planned way.  Note a successful test is one that identifies errors i.e., testing demonstrates the presence of errors not their abs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racteristics of a good test model is that it contains test cases that identify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7BB-DCC7-46D6-87AB-BA0E56BF3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Pla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resources and schedules the testing activity.  Note this activity should occur early in the development phase so that sufficient time and skill is dedicated to the testing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es to find faults in the user interface desig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es to find faults in participating objects and/or subsystems with respect to (w.r.t.) the use cases from the use cas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2 - 11/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134-6852-4E69-AA3D-65B8E1CA28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1-23T22:46:20Z</dcterms:modified>
  <cp:revision>722</cp:revision>
  <dc:subject/>
  <dc:title>Slide 1</dc:title>
</cp:coreProperties>
</file>