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2CB-5B70-4DE2-8200-D78969CE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8B4-A64A-4F7A-B5F2-3595769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CF1-0BCD-4A06-AC04-1362E073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F20-B1A8-45B7-A2AA-D5BB27D2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CA0-159F-48C8-A13E-141CBF77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3DB-45B2-42A3-AD4C-A517B949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A6E-2B7C-4EE5-886C-DEA0253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B24-EC45-452A-9544-4C897CA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B3F-B216-4F76-86C2-9E5FC8B5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2B4-5CF0-4486-9D80-46BEE5F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79E-227B-4A2C-92E2-06A15B0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CE8-1997-47E8-8732-A8D5403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40B0-793E-4D4B-8748-FEFB7303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2590920"/>
            <a:ext cx="5867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lass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-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3 – 11/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tegration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-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vidually test each component of the bottom layer and then integrate them with components of the next layer (assumes a hierarchical structur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required to simulate the components of higher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est stubs ar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-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nit test the components of the top layer first and then integrate the components of the next layer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s used to simulate the components of l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F16-03EF-47D7-A821-B45109F43A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tegration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based on depend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dependency graph is created (similar to a class diagram), then an order is generated.  The “leaf” components are tested first then the inner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f graph contains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ubs in the event of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A Parameterized Cost Model to Order Classes for Class-based Testing of C++ Applications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 Malloy, et al. ISSRE 200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B95-00E4-4CA9-AA47-755955E19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Activitie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omponents have been integrated, system testing ensures that the complete system complies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fun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ments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is point most of the faults in the individual components and the interfaces have been identified and corr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 during system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9DC-F011-4FED-9343-E69C2F70B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 during system testing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requirements testing) - finds differences between the functional requirements and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box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derived from the use cas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r selects those tests that are relevant to the user and have a high probability of uncovering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3E5-CA57-46A0-B665-C09EAE46CA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ds differences between goals (nonfunctional requirements) selected during system design and the system.  Following tests are perform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ecks if the system can respond to many simultaneous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um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ttempts to find faults associated with large amounts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ew systematic methods for finding security faults.  Use experience hackers to break into the system to expose f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DDD-AD63-4F7B-838A-4CFFAE0EB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ing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ttempts to find behaviors that violate timing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very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valuate the ability of the system to recover from errors e.g., unavailability of resources, a hardware failure, or a network fail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 system is installed and used by a set of users. Two types of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 a pilot test with users exercising the system in the development environment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espo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a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ptance test performed by a limited number of end users in the target environment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Gene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E64-655C-4A1B-A93E-3ED7251E1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al stage in the testing process before the system is accepted for operational use.  Three flav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nchmark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lient prepares a set of test cases that represent typical conditions under which the system should op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etitor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w system is tested against an existing system or competitor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dow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w and legacy systems are run in parallel and their outputs are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3FE-684C-4FC5-9C4E-A7C0E5C781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ystem is installed in the target environment and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s the test cases executed during function and performance testing in the targe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quirements cannot be tested in the development environment so new test cases a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367-05D2-4B45-BBA9-6A2F38FC8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O development is an iterativ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s modify, integrate, and retest components often, as new features are implemented  and/or existing features are impr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, a modification can introduce side effects or reveal previously hidden faults in other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609-514A-4CFD-9C3C-90B598C74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that fails after the modification of a component is said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gressing tes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esting activity whereby test are rerun to ensure that the system does not regress after a change; i.e., the system passes all the tests it did before th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approaches used in regression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st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r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829-B45B-46D9-949A-1FD8DEA87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08F-4C73-4DFA-B068-6256081C7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testing involves a te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ing predefined inputs into the system using the user interface, a command line console, or a debug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outputs generated by the systems to the expected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testing can be costly and error p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eatability of test execution can be achieved with auto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8CC-5AEB-437D-9900-BF9C426BFE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Testing Activiti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of test automation has been the execution of test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systems test include specification of tests in terms of sequence and timing of inputs and an expected output t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harness executes a number of test cases and compares the system output with the expected output t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3A7-9EA7-43E8-9870-4CF250523E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cumenting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cuses on the managerial aspects of testing.  Documents the scope, approach, resources, and schedule of test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Case Spec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test is documented by a test case specification .  Document includes inputs, drivers, stubs, expected outputs of the tests, and task to be per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Incident 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execution of each test is documented i.e., the actual results of each test and differences from the expected output are reco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56A-8A53-416D-A8DA-64F4741D10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cumenting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ummary 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ist all the failures that were discovered during the tests and those needed to be investig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analyze and prioritize each failure and plan for changes in the system and in th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can trigger the creation of new test cases and new test exec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26E-83B2-4010-8135-226958337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-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testing ch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s – use format given in class (see the example on the class web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 Tests – test at least one subsystem or class using a specification-based testing technique.  This will involve the creation of a test driver i.e. a main in the package containing the subsystem or class.  Use a similar format to that in section 7.1 to document the tests performed.  Include the code for the test driver in appendix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6EF-9587-47A3-B4EE-AEF50525A1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ject-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ests – evaluate how successful the tests were in terms of adequacy and coverage (see example on the class web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G – Test D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test case format on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2CB-F496-46C2-B3D5-975EAF2DC1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it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the building blocks of the software system i.e., objects and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nciple, all the objects developed during the development process should be tested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ually not feasible due to budget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it testing techniques have been devised including: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quivalence testing, boundary testing, path testing, state-based testing, data flow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145-87A0-4D12-94FA-71468A719E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t Testing – Equivalence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testing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a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ing technique that minimizes the number of test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inputs are partitioned into equivalence testing classes, and a test case is selected from each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- system behaves in a similar way for all members of an equiv. clas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used to determine equivalence class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, disjointedness, re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35-4B7E-4DFB-95E1-3D5B2773D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t Testing – Equivalence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id inputs to tes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NumberDaysInMonth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9480" y="1752480"/>
          <a:ext cx="8077320" cy="4111560"/>
        </p:xfrm>
        <a:graphic>
          <a:graphicData uri="http://schemas.openxmlformats.org/drawingml/2006/table">
            <a:tbl>
              <a:tblPr/>
              <a:tblGrid>
                <a:gridCol w="3429000"/>
                <a:gridCol w="2362320"/>
                <a:gridCol w="2286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quivalenc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alue for month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alue for year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31 days, non-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Ju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31 days, 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Ju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30 days, non-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Ju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30 days, 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Ju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28 or 29 days, non-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bru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 with 28 or 29 days, leap y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bru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7D8-B893-4AC8-BDF1-6C0DF4C542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t Testing – Path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testing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ing technique that identifies faults in implementation of the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test cases exercises all possible paths through the code at leas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 requires knowledge of the source code, unlike blackbox testing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 is the flow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ow graph consists of nodes representing the flow of control in the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990-604A-4335-84C5-75A3685AAF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it Testing – Path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count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lt;= 1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%2 !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 = k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1219320"/>
            <a:ext cx="7621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90512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x&lt;=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74320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(x%2 !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495680"/>
            <a:ext cx="8380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657600"/>
            <a:ext cx="9144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5181480"/>
            <a:ext cx="9907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1444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2133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334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242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971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924680" y="1752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19560" y="1752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62720" y="12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980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357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365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48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7160" y="5257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4200" y="42274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est cases for x to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pa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5, 2,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4, 5, 2,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200" y="582768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tatement and every branch (both outcomes) has been executed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30840" y="7984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87A-1479-40E0-BB45-E25004517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ing Activiti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grat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faults by focusing on small groups of components e.g. methods, classes, pack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components are integrated and tested, if no faults are revealed then additional components are added and te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cently added component is usually the one that triggers the most recently discovered 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order in which components are integrated can influence the total testing effort i.e. the cre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i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807-9B13-416A-9AE3-68BA195B4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tegration Testing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ba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down 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based on dependenci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ssumes that all components are first tested individually and then tested together as a sing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is a problem, i.e., where is the fa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# of stubs and driver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6002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7520" y="1981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3 - 11/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197-7ED8-4E0B-A992-71DA55701F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1-23T22:54:06Z</dcterms:modified>
  <cp:revision>733</cp:revision>
  <dc:subject/>
  <dc:title>Slide 1</dc:title>
</cp:coreProperties>
</file>