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074-BFDA-4BF5-895E-8A3B4408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050-03B6-47B6-86C2-67C52C42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C91-65D0-4ADC-B857-4C59B40D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BC0-E049-4402-A2D5-0E10408E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15F-FD1C-42BF-B6EB-02C7C868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C73-4CCB-4EF3-A1CD-9134AE80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BAD-7132-4D46-B4D6-95E12A8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608-9B64-48A6-A879-A4A60958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0C1-2DCF-4D3A-8320-70D88F30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10B-4F6C-4BDC-BBE1-037FFC6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5BB-D8C3-49E0-9FCC-5D54B639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BA3-091B-4BFA-8C2F-E1C6ED52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DB27-9F68-4AC1-BA20-DB52B09B2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ftware 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2590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lass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Deliv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24 – 11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ther Testing Activiti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testing involves a te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ing predefined inputs into the system using the user interface, a command line console, or a debugg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the outputs generated by the systems to the expected ora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testing can be costly and error p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eatability of test execution can be achieved with auto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174-E428-44D9-8A6E-C32BF24A72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ther Testing Activiti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cus of test automation has been the execution of test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 of systems test include specification of tests in terms of sequence and timing of inputs and an expected output t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harness executes a number of test cases and compares the system output with the expected output t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669-6C08-4DCF-9DEE-653F03DD89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ocumenting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Pl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ocuses on the managerial aspects of testing.  Documents the scope, approach, resources, and schedule of testing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Case Spec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ach test is documented by a test case specification .  Document includes inputs, drivers, stubs, expected outputs of the tests, and task to be per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Incident Re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ach execution of each test is documented i.e., the actual results of each test and differences from the expected output are recor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2E0-DEAB-4305-933E-C42DC98D7A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ocumenting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ummary Re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ist all the failures that were discovered during the tests and those needed to be investiga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 analyze and prioritize each failure and plan for changes in the system and in th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can trigger the creation of new test cases and new test exec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103-D973-43FC-A6FC-7A1CE37CD7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ject-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the testing chap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ests – use format given in class (see the example on the class web p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ystem Tests – test at least one subsystem or class using a specification-based testing technique.  This will involve the creation of a test driver i.e. a main in the package containing the subsystem or class.  Use a similar format to that in section 7.1 to document the tests performed.  Include the code for the test driver in appendix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EB3-E626-44B2-BD19-F8BE729D9B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ject-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Tests – evaluate how successful the tests were in terms of adequacy and coverage (see example on the class web p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G – Test D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hrough test case format on web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D12-83F3-4A13-8290-FC9C2E64EC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ftware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classes of documents associated with software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Docu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ncludes all the documents describing the implementation of the system from the requirements specification to the final acceptance test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Docu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ncludes documents and message systems that describe the system from the perspective of the end-user, technical staff and system administ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96A-0595-4DD7-9A69-E547F3D0E6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oftware Documentation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documentation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document and associated rationale describ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system, scope of system, objectives and success crite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system – functional reqs., nonfunctional reqs., system models (static and dynam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75B-B5C3-491F-BA62-5AF067B285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oftware Documentation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ocument describ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system, scope of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oftware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architecture – subsystem decomposition, h/w &amp; s/w mapping, persistent data management, access control, global s/w control, boundary con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ystem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504-2A41-46CC-A5F9-E8C6A163AB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oftware Documentation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documents descri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lan – relationship to other documents, system overview, features to be tested/not tested, pass/fail criteria, approach, testing material (h/w &amp; s/w reqs.), test cases, testing schedule (P. 476 Fig 11-2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ase Specification – ID, test items, input specs., output specs., environment, special procedures, dependencies (P. 477 Fig 11-2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ncident Report (see previous slide 1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ummary Report (see previous slide 1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A85-014F-41F3-98DF-BF337B2CEC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esting Activitie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components have been integrated, system testing ensures that the complete system complies wit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func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ments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is point most of the faults in the individual components and the interfaces have been identified and correc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activities during system 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5BA-6C7B-4F93-86FC-31480722A1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ftware Documentatio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documentation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nal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riefly describes the services that the system prov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tallation Doc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ovides details on how to install the system.  Describes disks on which the system is supplied, the files on these disks and the minimal h/w configuration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roductory Man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esents an informal introduction to system, describing its ‘normal’ usage.  Describes how to get started and how to use the comm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BC7-053B-49E4-AE1E-3A8F7863E0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ftware Documentatio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documentation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ference Manu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describ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facilities, usage, a list of errors and causes, and how to recover from detected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ministrator’s Gu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ovides a technical description of how the system interacts with other systems, how to recognize and repair h/w-related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088-1AC5-47E7-9071-ACF6C6F746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activities during system testing co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requirements testing) - finds differences between the functional requirements and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box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ases derived from the use cas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r selects those tests that are relevant to the user and have a high probability of uncovering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9D1-F8E5-46DA-8842-0B672855EE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ds differences between goals (nonfunctional requirements) selected during system design and the system.  Following tests are perform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ss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hecks if the system can respond to many simultaneous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lume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ttempts to find faults associated with large amounts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urity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ew systematic methods for finding security faults.  Use experience hackers to break into the system to expose fa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EA7-3623-4CAA-8823-6FFA4975BE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ing t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ttempts to find behaviors that violate timing constr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very t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valuate the ability of the system to recover from errors e.g., unavailability of resources, a hardware failure, or a network fail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eld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-  system is installed and used by a set of users. Two types of 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pha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s a pilot test with users exercising the system in the development environment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espo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ta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ceptance test performed by a limited number of end users in the target environment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Gener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86D-54EE-42D7-9B33-5B823C4BBA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ptance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al stage in the testing process before the system is accepted for operational use.  Three flav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nchmark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lient prepares a set of test cases that represent typical conditions under which the system should op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etitor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ew system is tested against an existing system or competitor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dow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ew and legacy systems are run in parallel and their outputs are com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0DD-96AF-4D31-A28E-B6FFC46455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ation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ystem is installed in the target environment and evalu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s the test cases executed during function and performance testing in the target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requirements cannot be tested in the development environment so new test cases are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6AE-19A2-40EA-ACCD-8A6059A138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ther Testing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ression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OO development is an iterativ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rs modify, integrate, and retest components often, as new features are implemented  and/or existing features are impr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, a modification can introduce side effects or reveal previously hidden faults in other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9C7-34E4-4BC5-B37C-F853592CFF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ther Testing Activitie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stem that fails after the modification of a component is said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gressing test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testing activity whereby test are rerun to ensure that the system does not regress after a change; i.e., the system passes all the tests it did before the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approaches used in regression 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st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r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4 - 11/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2DA-A363-44EC-8CA2-3108DE36C1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11-30T22:44:55Z</dcterms:modified>
  <cp:revision>742</cp:revision>
  <dc:subject/>
  <dc:title>Slide 1</dc:title>
</cp:coreProperties>
</file>