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BD5-2DDB-43FA-8274-A2E92284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0C1-9AE4-4F60-A54D-E738496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AB0-B883-41DA-8687-6A19A310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182-AB38-4977-AC74-82B5903F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5D2-D79E-47A1-9616-1BA4A1A8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933-7738-4A74-B6B6-2144C73F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3DA-0F9C-4777-977D-5A1F2303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56A-CDCF-4D27-92CC-40F829B4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385-8C21-42C5-8CB2-B7092A2A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25C-E9CB-4D4E-BB57-FDB144E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A35-37AB-4CB6-902A-68FC0ECC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940-CB0F-40C1-92C8-057811A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F984-F9C0-4E77-9780-81F825DA7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in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25 – 12/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5000" y="2666880"/>
            <a:ext cx="495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nal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rocess model used in project and why it is better than other development process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/disadvantages over othe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of a project plan.  Why is each important?  Project plan as it relates to the class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ce of use cases during s/w development.  Model used to represent use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5 - 12/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0DF-16C1-4736-B1C7-3F6AE9FB8D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nal Review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/w architectures – the ones used in the project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-tier, 4-tier, pipe and filter, 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 think Q. 7 from Exam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eally nice question!!!  That is, a question involving use cases, an architecture, a class diagram, a sequence diagram, and system test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design – package and class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interaction – sequenc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5 - 12/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8D8-39E0-4CC2-A85E-8D3F146695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nal Review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process approx. 40% of final exam (class notes 11/09 and 11/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– software testing, software reliability, stubs, test drivers, fault, error, fail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used to improve software rel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o write test cases blackbox and white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ystem, Integration testing, System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the Testing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5 - 12/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BC3-9A6A-437D-AB79-38CD11D575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2-10T19:41:21Z</dcterms:modified>
  <cp:revision>750</cp:revision>
  <dc:subject/>
  <dc:title>Slide 1</dc:title>
</cp:coreProperties>
</file>