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14F-0993-4F10-A542-918CD26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77B-9E87-4660-97F7-F4A87AB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6CB-1C7B-4962-BF49-D93F8689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DAA-B985-449F-B704-065F2C5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E0C-C63A-499B-895A-16A07221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E04-3D7C-4BC2-8546-B8643758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A69-0BAE-400B-83C7-E66F120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07F-BCCA-47E7-91CF-49B7CB15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193-2CBF-47A1-A010-4AAFE72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3B5-E02E-4286-A97A-F54D557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4AE-0525-443B-9A16-E21BB8C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21C-E4D8-4B14-9673-421CED8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AB8-2561-459E-BC0C-235466C7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N 4010 Software Engineering 1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ec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4290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or: Peter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http://www.cs.fiu.edu/~clarkep/courses/Fall2004/cen4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60480" y="251460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tional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made about systems change consta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domain models stabilize, solution domain models are in constant fl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hanges to the solution models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implementation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understand the context in which each design decision 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95C-AB03-41E0-B6A2-58F3035A46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urse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/w eng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4DF-29D5-4D02-8222-ED544F29E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view of Softwar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6668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/w Eng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FF3-5610-4AB1-98DE-7DFDF65B2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Software Enginee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Software Engineering is the application of a systematic, disciplined, quantifiable approach to the development, operation and maintenance of software; that is, the application of engineering to softwa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/5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ource: IEEE Std 610.12-1990, IEEE Standard Glossary of Software Engineering Terminolo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2FC-4416-4FD7-81A5-8DA95EA08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is Software Engineering? 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 engineering is an engineering discipline which is concerned with all aspects of software production.”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merville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5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 engineering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acqui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nale-driven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5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uegge &amp; Duto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B54-973C-4449-91F2-CF2307740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y software enginee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s – leap-year, Y2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mis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and ove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tim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necessa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905120"/>
            <a:ext cx="228600" cy="3200400"/>
          </a:xfrm>
          <a:custGeom>
            <a:avLst/>
            <a:gdLst>
              <a:gd name="textAreaLeft" fmla="*/ 0 w 228600"/>
              <a:gd name="textAreaRight" fmla="*/ 8244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97180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Bottom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(see text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53C-666D-44F5-A5B1-966CDF7C2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del is an abstract representation of a system that enables us to answer questions about the syste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use a model?  Systems are too large, too small, too complicated, or too expensive, to experience firsth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s al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3A7-886B-4F87-B5B1-CB35B7967E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appropriat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BF4-DD5B-44AE-B5A2-99DEFB91F5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Knowledge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specific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knowledge can affect the developmen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acquisition is nonlinear – affects several of the software development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 i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 4010 Class 1 - 08/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8FF-2F74-44DB-B765-6C3B2C69FB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9:01:46Z</dcterms:created>
  <dc:creator>clarkep</dc:creator>
  <dc:description/>
  <dc:language>en-US</dc:language>
  <cp:lastModifiedBy>clarkep</cp:lastModifiedBy>
  <dcterms:modified xsi:type="dcterms:W3CDTF">2004-08-31T20:16:09Z</dcterms:modified>
  <cp:revision>46</cp:revision>
  <dc:subject/>
  <dc:title>CEN 4010 Software Engineering 1 Section 2</dc:title>
</cp:coreProperties>
</file>