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613-AB3A-4211-813B-88B9E225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21C-291B-4C43-95D4-73966846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0AC1-9D1B-4C80-BC4F-EEE70E2F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289-2803-40C0-A3D6-9265736F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515-F513-404E-AF5B-D1E7241C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CFB-C39F-45E2-8736-AE38755A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B54-22C1-4E47-A7F7-F471F05C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DAB-022B-4FCA-8002-A876F8AD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97A-F524-43ED-8806-59DC8C72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162-6798-49FA-91EA-E848F421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298-DD4A-4C10-B9FF-652B7ED5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075-185E-4AD9-A98F-B3911BE6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548-1D85-457B-9A50-9C4C34C9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verview of Software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28191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285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Clas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Process Models (Part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 of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2 – 09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ftwa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to meet the specification i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of the project are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composed into smaller subsystem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hitectural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build system identified 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/w and s/w platform, data management, control flow, and secu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model describing subsystem decomposition and system strate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94E-D79E-4415-B567-1EC276F415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ftware Development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s the gap between analysis model and the strategies identified in the system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ing object and subsystem interfac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off –the-shelf compon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e object model to attain design goals e.g., extensibility, understandability, and required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detailed object model annotated with constraints and supporting docu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267-3749-4F60-BA94-F57C215435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ftware Development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 of the solution model into sourc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s the attributes and methods of each object integrating all objects such that they function as a singl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s the gap between the detailed object design model and a complete set of source code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eneral process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ools to assists the programmer such as CASE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5F4-DE63-4550-A71E-B25AE650E7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ftware Validation (or V&amp;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the software does what the customer want, i.e., that the software conforms to its specification and meets the expectations of the custo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lida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Are we building the right product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the software meets the expectations of the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if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‘Are we building the product right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the software conforms to the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Sommervil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76C-B238-4223-A966-203E6A406C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ftware Validation (V&amp;V)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inspec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tic): analyze and check system representations 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irements documents, design diagram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rogram sourc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tes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ecuting an implementation of the software with test data and examining the outputs against expected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&amp;V process establishes the existence of de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ing is a process that locates and corrects these de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A42-AB4A-4044-857A-F48CFC2BFB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must evolve to meet the customer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ftware mainten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changing a system after it has been delivered.  Reasons for mainten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pair faul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apt the software to a different operating environment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d to or modify system’s functi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four types of maintenance activ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619-5CED-4E59-963A-744E5C1822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tributes of Good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changing the software to meets the changing need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, security and saf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ness, processing time, and memory u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user interface and adequate docu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072-C653-4028-900A-248801248C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ing Softwar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ritical and time consu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exchange of models and documents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o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ommon knowledge i.e. domain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ssist with communication e.g. CASE tools, project management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notation and methodology assist with communication, e.g., DOD’s guidelines for s/w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E37-A557-4057-9165-3C773ABE86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naging Software Development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fication of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major decision need to document: problem, alternatives, criteria used to evaluate alternatives, and priority of altern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useful during mainten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Configur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s and controls changes in work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useful during testing and mainten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B64-1FAF-421F-8D62-2B066DC2F8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naging Software Development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ight of th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(at least tries to) delivery of artifacts on time and within bu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project will invol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milestones for each deliv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 of the milestones using a bar chart, activity network, or PERT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of different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658-F813-4826-A682-3851F3360A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s Software Enginee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Software Engineering is the application of a systematic, disciplined, quantifiable approach to the development, operation and maintenance of software; that is, the application of engineering to softwa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/5 po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ource: IEEE Std 610.12-1990, IEEE Standard Glossary of Software Engineering Terminolog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1FC-EAD0-4863-B93E-BDD359F5EB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ftware Proces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752480" y="2742840"/>
            <a:ext cx="5486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roces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fal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-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terfall Model (Royse 197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98108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25909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2767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uni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9625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4724280"/>
            <a:ext cx="1524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4343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52578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3808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9092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95680" y="41907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17220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69C-6920-4F47-AC5B-8AEA2A488D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terfall Mode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documents are produced after each phase and “signed off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to n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does not flow up” i.e., it is difficult to change artifact produced in the previous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odel should be used only when the requirements are well underst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s engineering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management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45E-41E2-4926-8CA7-FDC60F1D82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-Model (Jensen &amp; Tonies 197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06668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362320"/>
            <a:ext cx="1524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65760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ed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51055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65760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362320"/>
            <a:ext cx="1524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106668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038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7432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152388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981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2767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5720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172200" y="3276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800600" y="45720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391520" y="19807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1480" y="5257800"/>
            <a:ext cx="268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lines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formation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activities a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bstraction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9E6-5FD1-48E9-A81B-1CBB054C30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-Model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waterfall model but makes explicit the dependency between development and V&amp;V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ft half of the V represents development and the right half system valid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requirements specification includes systems reqs. analysis, s/w reqs. elicitation, and reqs.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11F-BA2D-4973-9999-D04FCC4F1C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volutionar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32767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2860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43434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1905120"/>
            <a:ext cx="2666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1981080"/>
            <a:ext cx="259092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42900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42900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18148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1814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495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18148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6960" y="106668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s"/>
          <p:cNvSpPr/>
          <p:nvPr/>
        </p:nvSpPr>
        <p:spPr>
          <a:xfrm rot="5400000">
            <a:off x="7009920" y="2590560"/>
            <a:ext cx="838080" cy="2057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ocument"/>
          <p:cNvSpPr/>
          <p:nvPr/>
        </p:nvSpPr>
        <p:spPr>
          <a:xfrm rot="5400000">
            <a:off x="647280" y="2628720"/>
            <a:ext cx="762120" cy="175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 rot="5400000">
            <a:off x="6933960" y="1752480"/>
            <a:ext cx="685800" cy="1600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ocument"/>
          <p:cNvSpPr/>
          <p:nvPr/>
        </p:nvSpPr>
        <p:spPr>
          <a:xfrm rot="5400000">
            <a:off x="6933960" y="3886200"/>
            <a:ext cx="762120" cy="1676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AED-D769-4D85-B1FD-7C2D83118E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volutionary Mode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– develop initial implementation, expose it to user, and refine it until an adequate system i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row-away 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del used when problem is not clearly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adv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cess not visible, systems are poorly constructed, may require special tools and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DD4-57D1-464C-B72A-BC3C177A1C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in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f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the appropriat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95C-315F-4858-B8DE-DBCD48DF0E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mportant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participa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all persons involved in a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developers, project manager, client, en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ro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ssociated with a set of tasks assigned to a particip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underlying re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bstraction of the re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work 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n artifact produced during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delive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ork product for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A1A-F9D5-4D61-AB96-1A4C603D29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mportant Terms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ac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set of tasks performed toward a specific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milest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nd-point of a software process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ta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n atomic unit of work that can be managed and that consumes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igh-level principle used to guide the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functional requir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n area of functionality that the system mus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ABC-AD0C-44DF-822D-034E475F9E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mportant Terms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nonfunctional requir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constraint on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n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s a graphical or textual set of rules representing a model e.g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fied Modeling Language (UML),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repeatable technique for solving a specific problem e.g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rt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method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collection of methods for solving a class of problems e.g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fied Software Development Proces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500-04FC-41C6-B703-68EAFCFDAB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/w Specific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requirements elicitation (func. &amp; non-func.) and ana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/w Develop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systems design, detailed design (OO design), implemen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/w Valid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validating system against requirements (testing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/w 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meets changing customer needs and error correction (maintenanc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2BF-D1A9-4EB7-89FF-0B4171CA64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ftware Spec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ity of the software and constraints (non-functional requirements) on its operation must be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quirements eli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and developers define the purpose of the syst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a description of the system in terms of actors and uses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roles such as end users and other computers the system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5BA-7088-43AC-9411-C26C7AC8FD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ftware Specificatio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s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general sequences of events that describe all possible actions between actor and the system for a given piece of functiona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produce a model of the system 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rect, complete, consistent, unambiguous, real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if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 transform the use cases into an object model that completely describes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is checked for ambiguities and inconsist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system model annotated with attributes, operations, and associations.  Described in terms of structures and dynamic inter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 - 09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507-60AA-49F6-9257-08ED764B2E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09-07T23:41:37Z</dcterms:modified>
  <cp:revision>68</cp:revision>
  <dc:subject/>
  <dc:title>Slide 1</dc:title>
</cp:coreProperties>
</file>