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9A1-0DA6-47BF-B237-BB26F021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F28-B603-4789-8F47-EAA132B2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1A3-85F9-49B9-BDD9-D71F354A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11C-66D6-41E3-84F1-76F3AE87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C91-8213-47DD-8322-14D7ADE5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877-7158-4127-B229-65BB1923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9471-477D-4F57-AF6E-F96D17B3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BC7A-0537-4193-899F-2EC29898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20B-65C9-45FC-865D-FF0901C4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728-1F8C-47A8-9F1C-2A3A02F5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6151-BDEF-44EB-BD1C-BABBDF83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9468-699F-4E8A-ACD3-9AF9A494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978F-2FA0-4FD6-AC56-C008A8045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oftware Process Models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2743200"/>
            <a:ext cx="5715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- Class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Proces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ehm’s Spir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Software Develop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for Developing Life Cycl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1160" y="228600"/>
            <a:ext cx="43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 4010 Class 4 – 09/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85080" y="6132600"/>
            <a:ext cx="565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Note:  Use Case template posted on the web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cremental Development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(Mills et al. 198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1640" y="194472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35360" y="194472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c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30840" y="194472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760" y="3773520"/>
            <a:ext cx="16761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78160" y="37735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35560" y="37735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92960" y="3773520"/>
            <a:ext cx="14475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78160" y="2249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21360" y="2249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68920" y="2630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35160" y="30877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35160" y="308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96920" y="4154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02040" y="4154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9440" y="4154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40520" y="4154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54720" y="445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35160" y="48402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35160" y="445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84160" y="510552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18280" y="438300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781-9B1D-4985-AAF8-719E5D860C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cremental Development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/w specification, design and implementation is broken down into a series of increments which are developed in t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customers some opportunities to delay decisions on the detailed requirements of th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are identified and a priority allo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crement provides a subset of the system’s function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861-D067-4523-87FB-9DB64595DD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cremental Development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do not have to wait for the entir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gain experience using early increments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s the risk of overall project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important system services receives the most 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difficult to map meaningful functionality into small incre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0180-7EEB-4AEF-870B-7254E46BA4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cremental Development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remental approach has evolved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‘extreme programming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eck 198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 programm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&amp; delivery of very small inc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involvement in the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code impr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oless programming – programs are regarded as group proper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8510-C3CF-460D-A8D4-5A2D98A705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nified Software Development Proces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Booch, Jacobson and Rumbaugh, 19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Boehm’s spiral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ject consists of several cycles, each ends with the delivery of a product to the custo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ycle consists of four ph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hase consists of a number of it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9880" y="388620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84520" y="4151160"/>
            <a:ext cx="37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se phases differ wildly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jects i.e., time and deliver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529-450A-49EC-9E44-B31A9BEC7D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fied Software Development Process c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e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ds with commitment from the project sponsor to go a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ds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architecture of the system in pla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n for construction agre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ignificant risks identifi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risks understood enough not to be too worr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r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ds with a beta-releas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introducing the system to it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D90-EDCD-4564-A65F-C5D9ADBF61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fied Software Development Process c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 activiti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quirements, Analysis, Design, Implementatio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ipate in each iteration of the Unified Proc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have differing phase-specific needs e.g., during elaboration phase, the requirements and analysis activities are allocated most of the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95C-0B4C-4067-90B2-861CBDB5D5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fied Software Development Process c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1752480"/>
            <a:ext cx="17528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3200400"/>
            <a:ext cx="990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666880"/>
            <a:ext cx="17528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05320"/>
            <a:ext cx="1752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4343400"/>
            <a:ext cx="1752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5410080"/>
            <a:ext cx="1752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371600" y="1905120"/>
            <a:ext cx="289548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1981080"/>
            <a:ext cx="12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371600" y="2895480"/>
            <a:ext cx="28954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3505320"/>
            <a:ext cx="29718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3657600"/>
            <a:ext cx="297180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3733920"/>
            <a:ext cx="304812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91280" y="266688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iz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92360" y="335268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280" y="472428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16040" y="4038480"/>
            <a:ext cx="16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31560" y="1828800"/>
            <a:ext cx="18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cess is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se driv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45720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ptured 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se cas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7040" y="3581280"/>
            <a:ext cx="23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models are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roug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ace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pendenci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914400"/>
            <a:ext cx="213372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990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3D1-55B5-4743-B2B1-1593BC02DF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fied Software Development Process c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men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communication links between hardware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between physical machines and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s in the Unified Process a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race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.e., a model element can be traced to at least one element in an associated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between models a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am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.e., can tell in a foreseeable way how to get from an element in one model to one/more elements in an associated mod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2E5-EBB3-4F38-A2DC-AFF3479255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EEE 1074: Standard for Developing Life Cycle Pro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the set of activities and processes that are mandatory for the development and maintenance of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t of activities that is performed towards a specific purp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are grouped into higher abstractions called 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process 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169-2756-4919-9188-C6CC5553E0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aterfall Model (Royse 197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98108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59092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327672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unit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396252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ion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4724280"/>
            <a:ext cx="1524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2209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4343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487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525780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38080" y="2895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9092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495680" y="41907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17220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A74-1E20-41A1-92FB-5B5B0672FA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457200" y="1828800"/>
          <a:ext cx="8229600" cy="3593880"/>
        </p:xfrm>
        <a:graphic>
          <a:graphicData uri="http://schemas.openxmlformats.org/drawingml/2006/table">
            <a:tbl>
              <a:tblPr/>
              <a:tblGrid>
                <a:gridCol w="3505320"/>
                <a:gridCol w="4724280"/>
              </a:tblGrid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Init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Management and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Quality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pt Explo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Allo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1678680" y="914400"/>
            <a:ext cx="657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: Software processes in IEEE 10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1B35-91CF-4AFC-B218-38BABA8A45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533520" y="1295280"/>
          <a:ext cx="8229600" cy="3544920"/>
        </p:xfrm>
        <a:graphic>
          <a:graphicData uri="http://schemas.openxmlformats.org/drawingml/2006/table">
            <a:tbl>
              <a:tblPr/>
              <a:tblGrid>
                <a:gridCol w="3505320"/>
                <a:gridCol w="4724280"/>
              </a:tblGrid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-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and 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i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l 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tion and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Configuration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 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068480" y="5335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: Software processes in IEEE 1074 c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4640" y="5268960"/>
            <a:ext cx="811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ject manager customizes the activities defined in IEEE 107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pecific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094-BE03-4728-8907-4A7FF696AE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28640" y="1981080"/>
            <a:ext cx="4267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5E3-AE7D-40CF-A4C0-33A9123701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aterfall Model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documents are produced after each phase and “signed off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to no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does not flow up” i.e., it is difficult to change artifact produced in the previous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odel should be used only when the requirements are well underst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s engineering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management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96AA-3CA5-488F-B7E7-E5AC613E81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V-Model (Jensen &amp; Tonies 197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06668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2362320"/>
            <a:ext cx="1524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65760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ed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10552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365760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2362320"/>
            <a:ext cx="1524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ion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106668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4038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27432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152388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9810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32767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5720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172200" y="3276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00600" y="45720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391520" y="198072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1480" y="5257800"/>
            <a:ext cx="268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lines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formation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activities a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bstraction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586-27E5-48E5-BBEC-3AC6063B71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V-Model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waterfall model but makes explicit the dependency between development and V&amp;V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ft half of the V represents development and the right half system valid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requirements specification includes systems reqs. analysis, s/w reqs. elicitation, and reqs.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652E-7462-4E08-A2FE-946F1FDF33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volutionary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32767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28600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434340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1905120"/>
            <a:ext cx="2666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1981080"/>
            <a:ext cx="259092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2900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2900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181480" y="2666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18148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4495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181480" y="4724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6960" y="106668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ocuments"/>
          <p:cNvSpPr/>
          <p:nvPr/>
        </p:nvSpPr>
        <p:spPr>
          <a:xfrm rot="5400000">
            <a:off x="7009920" y="2590560"/>
            <a:ext cx="838080" cy="2057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ocument"/>
          <p:cNvSpPr/>
          <p:nvPr/>
        </p:nvSpPr>
        <p:spPr>
          <a:xfrm rot="5400000">
            <a:off x="647280" y="2628720"/>
            <a:ext cx="762120" cy="175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ocument"/>
          <p:cNvSpPr/>
          <p:nvPr/>
        </p:nvSpPr>
        <p:spPr>
          <a:xfrm rot="5400000">
            <a:off x="6933960" y="1752480"/>
            <a:ext cx="685800" cy="1600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ocument"/>
          <p:cNvSpPr/>
          <p:nvPr/>
        </p:nvSpPr>
        <p:spPr>
          <a:xfrm rot="5400000">
            <a:off x="6933960" y="3886200"/>
            <a:ext cx="762120" cy="1676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403-A0E9-4D93-81B3-20A1491C48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volutionary Model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– develop initial implementation, expose it to user, and refine it until an adequate system is p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pl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row-away proto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v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odel used when problem is not clearly def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adv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ocess not visible, systems are poorly constructed, may require special tools and techn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0C5-626A-42B2-AF0B-DA2E49C21B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oehm’s Spiral Model (Boehm 198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34290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1295280"/>
            <a:ext cx="5079960" cy="4597560"/>
          </a:xfrm>
          <a:custGeom>
            <a:avLst/>
            <a:gdLst/>
            <a:ahLst/>
            <a:rect l="l" t="t" r="r" b="b"/>
            <a:pathLst>
              <a:path w="3200" h="2896">
                <a:moveTo>
                  <a:pt x="1088" y="1344"/>
                </a:moveTo>
                <a:cubicBezTo>
                  <a:pt x="1200" y="1156"/>
                  <a:pt x="1312" y="968"/>
                  <a:pt x="1472" y="960"/>
                </a:cubicBezTo>
                <a:cubicBezTo>
                  <a:pt x="1632" y="952"/>
                  <a:pt x="2040" y="1160"/>
                  <a:pt x="2048" y="1296"/>
                </a:cubicBezTo>
                <a:cubicBezTo>
                  <a:pt x="2056" y="1432"/>
                  <a:pt x="1736" y="1768"/>
                  <a:pt x="1520" y="1776"/>
                </a:cubicBezTo>
                <a:cubicBezTo>
                  <a:pt x="1304" y="1784"/>
                  <a:pt x="800" y="1520"/>
                  <a:pt x="752" y="1344"/>
                </a:cubicBezTo>
                <a:cubicBezTo>
                  <a:pt x="704" y="1168"/>
                  <a:pt x="1016" y="808"/>
                  <a:pt x="1232" y="720"/>
                </a:cubicBezTo>
                <a:cubicBezTo>
                  <a:pt x="1448" y="632"/>
                  <a:pt x="1856" y="704"/>
                  <a:pt x="2048" y="816"/>
                </a:cubicBezTo>
                <a:cubicBezTo>
                  <a:pt x="2240" y="928"/>
                  <a:pt x="2384" y="1200"/>
                  <a:pt x="2384" y="1392"/>
                </a:cubicBezTo>
                <a:cubicBezTo>
                  <a:pt x="2384" y="1584"/>
                  <a:pt x="2208" y="1848"/>
                  <a:pt x="2048" y="1968"/>
                </a:cubicBezTo>
                <a:cubicBezTo>
                  <a:pt x="1888" y="2088"/>
                  <a:pt x="1664" y="2144"/>
                  <a:pt x="1424" y="2112"/>
                </a:cubicBezTo>
                <a:cubicBezTo>
                  <a:pt x="1184" y="2080"/>
                  <a:pt x="776" y="1928"/>
                  <a:pt x="608" y="1776"/>
                </a:cubicBezTo>
                <a:cubicBezTo>
                  <a:pt x="440" y="1624"/>
                  <a:pt x="392" y="1400"/>
                  <a:pt x="416" y="1200"/>
                </a:cubicBezTo>
                <a:cubicBezTo>
                  <a:pt x="440" y="1000"/>
                  <a:pt x="584" y="720"/>
                  <a:pt x="752" y="576"/>
                </a:cubicBezTo>
                <a:cubicBezTo>
                  <a:pt x="920" y="432"/>
                  <a:pt x="1192" y="352"/>
                  <a:pt x="1424" y="336"/>
                </a:cubicBezTo>
                <a:cubicBezTo>
                  <a:pt x="1656" y="320"/>
                  <a:pt x="1936" y="368"/>
                  <a:pt x="2144" y="480"/>
                </a:cubicBezTo>
                <a:cubicBezTo>
                  <a:pt x="2352" y="592"/>
                  <a:pt x="2584" y="792"/>
                  <a:pt x="2672" y="1008"/>
                </a:cubicBezTo>
                <a:cubicBezTo>
                  <a:pt x="2760" y="1224"/>
                  <a:pt x="2760" y="1552"/>
                  <a:pt x="2672" y="1776"/>
                </a:cubicBezTo>
                <a:cubicBezTo>
                  <a:pt x="2584" y="2000"/>
                  <a:pt x="2336" y="2232"/>
                  <a:pt x="2144" y="2352"/>
                </a:cubicBezTo>
                <a:cubicBezTo>
                  <a:pt x="1952" y="2472"/>
                  <a:pt x="1792" y="2520"/>
                  <a:pt x="1520" y="2496"/>
                </a:cubicBezTo>
                <a:cubicBezTo>
                  <a:pt x="1248" y="2472"/>
                  <a:pt x="752" y="2336"/>
                  <a:pt x="512" y="2208"/>
                </a:cubicBezTo>
                <a:cubicBezTo>
                  <a:pt x="272" y="2080"/>
                  <a:pt x="160" y="1880"/>
                  <a:pt x="80" y="1728"/>
                </a:cubicBezTo>
                <a:cubicBezTo>
                  <a:pt x="0" y="1576"/>
                  <a:pt x="8" y="1480"/>
                  <a:pt x="32" y="1296"/>
                </a:cubicBezTo>
                <a:cubicBezTo>
                  <a:pt x="56" y="1112"/>
                  <a:pt x="112" y="808"/>
                  <a:pt x="224" y="624"/>
                </a:cubicBezTo>
                <a:cubicBezTo>
                  <a:pt x="336" y="440"/>
                  <a:pt x="496" y="296"/>
                  <a:pt x="704" y="192"/>
                </a:cubicBezTo>
                <a:cubicBezTo>
                  <a:pt x="912" y="88"/>
                  <a:pt x="1184" y="0"/>
                  <a:pt x="1472" y="0"/>
                </a:cubicBezTo>
                <a:cubicBezTo>
                  <a:pt x="1760" y="0"/>
                  <a:pt x="2176" y="48"/>
                  <a:pt x="2432" y="192"/>
                </a:cubicBezTo>
                <a:cubicBezTo>
                  <a:pt x="2688" y="336"/>
                  <a:pt x="2888" y="632"/>
                  <a:pt x="3008" y="864"/>
                </a:cubicBezTo>
                <a:cubicBezTo>
                  <a:pt x="3128" y="1096"/>
                  <a:pt x="3200" y="1312"/>
                  <a:pt x="3152" y="1584"/>
                </a:cubicBezTo>
                <a:cubicBezTo>
                  <a:pt x="3104" y="1856"/>
                  <a:pt x="2880" y="2288"/>
                  <a:pt x="2720" y="2496"/>
                </a:cubicBezTo>
                <a:cubicBezTo>
                  <a:pt x="2560" y="2704"/>
                  <a:pt x="2400" y="2768"/>
                  <a:pt x="2192" y="2832"/>
                </a:cubicBezTo>
                <a:cubicBezTo>
                  <a:pt x="1984" y="2896"/>
                  <a:pt x="1728" y="2888"/>
                  <a:pt x="1472" y="28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49640" y="3454560"/>
            <a:ext cx="102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2600" y="3429000"/>
            <a:ext cx="84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cept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06240" y="2438280"/>
            <a:ext cx="67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2400" y="3124080"/>
            <a:ext cx="77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2240" y="3048120"/>
            <a:ext cx="77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5400" y="2819520"/>
            <a:ext cx="77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77640" y="1523880"/>
            <a:ext cx="67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080" y="2057400"/>
            <a:ext cx="67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26080" y="3581280"/>
            <a:ext cx="525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/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q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6240" y="4191120"/>
            <a:ext cx="78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q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84480" y="4114800"/>
            <a:ext cx="97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24520" y="4724280"/>
            <a:ext cx="83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92560" y="4724280"/>
            <a:ext cx="78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9920" y="5410080"/>
            <a:ext cx="89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6280" y="3657600"/>
            <a:ext cx="65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518148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48769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44956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41148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8720" y="5181480"/>
            <a:ext cx="962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gration 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8200" y="4800600"/>
            <a:ext cx="72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5400" y="434340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7680" y="358128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i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08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80" y="1127160"/>
            <a:ext cx="250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objectiv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ernatives, &amp;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0160" y="554688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next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2920" y="950760"/>
            <a:ext cx="24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alternativ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&amp; resolv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13520" y="5105520"/>
            <a:ext cx="19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&amp; ver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6320" y="3639960"/>
            <a:ext cx="2957760" cy="2600640"/>
          </a:xfrm>
          <a:custGeom>
            <a:avLst/>
            <a:gdLst/>
            <a:ahLst/>
            <a:rect l="l" t="t" r="r" b="b"/>
            <a:pathLst>
              <a:path w="1863" h="1638">
                <a:moveTo>
                  <a:pt x="11" y="1532"/>
                </a:moveTo>
                <a:cubicBezTo>
                  <a:pt x="10" y="1544"/>
                  <a:pt x="0" y="1589"/>
                  <a:pt x="11" y="1605"/>
                </a:cubicBezTo>
                <a:cubicBezTo>
                  <a:pt x="14" y="1610"/>
                  <a:pt x="22" y="1608"/>
                  <a:pt x="28" y="1610"/>
                </a:cubicBezTo>
                <a:cubicBezTo>
                  <a:pt x="60" y="1619"/>
                  <a:pt x="87" y="1626"/>
                  <a:pt x="118" y="1638"/>
                </a:cubicBezTo>
                <a:cubicBezTo>
                  <a:pt x="302" y="1635"/>
                  <a:pt x="421" y="1636"/>
                  <a:pt x="582" y="1622"/>
                </a:cubicBezTo>
                <a:cubicBezTo>
                  <a:pt x="615" y="1616"/>
                  <a:pt x="652" y="1618"/>
                  <a:pt x="683" y="1605"/>
                </a:cubicBezTo>
                <a:cubicBezTo>
                  <a:pt x="715" y="1592"/>
                  <a:pt x="745" y="1576"/>
                  <a:pt x="778" y="1566"/>
                </a:cubicBezTo>
                <a:cubicBezTo>
                  <a:pt x="814" y="1527"/>
                  <a:pt x="904" y="1507"/>
                  <a:pt x="957" y="1493"/>
                </a:cubicBezTo>
                <a:cubicBezTo>
                  <a:pt x="1035" y="1446"/>
                  <a:pt x="938" y="1500"/>
                  <a:pt x="1013" y="1471"/>
                </a:cubicBezTo>
                <a:cubicBezTo>
                  <a:pt x="1041" y="1460"/>
                  <a:pt x="1038" y="1449"/>
                  <a:pt x="1074" y="1443"/>
                </a:cubicBezTo>
                <a:cubicBezTo>
                  <a:pt x="1093" y="1424"/>
                  <a:pt x="1114" y="1406"/>
                  <a:pt x="1141" y="1398"/>
                </a:cubicBezTo>
                <a:cubicBezTo>
                  <a:pt x="1167" y="1381"/>
                  <a:pt x="1185" y="1365"/>
                  <a:pt x="1214" y="1359"/>
                </a:cubicBezTo>
                <a:cubicBezTo>
                  <a:pt x="1263" y="1322"/>
                  <a:pt x="1241" y="1331"/>
                  <a:pt x="1275" y="1320"/>
                </a:cubicBezTo>
                <a:cubicBezTo>
                  <a:pt x="1301" y="1301"/>
                  <a:pt x="1324" y="1286"/>
                  <a:pt x="1348" y="1264"/>
                </a:cubicBezTo>
                <a:cubicBezTo>
                  <a:pt x="1360" y="1231"/>
                  <a:pt x="1384" y="1193"/>
                  <a:pt x="1410" y="1169"/>
                </a:cubicBezTo>
                <a:cubicBezTo>
                  <a:pt x="1414" y="1161"/>
                  <a:pt x="1415" y="1152"/>
                  <a:pt x="1421" y="1146"/>
                </a:cubicBezTo>
                <a:cubicBezTo>
                  <a:pt x="1425" y="1142"/>
                  <a:pt x="1434" y="1145"/>
                  <a:pt x="1438" y="1141"/>
                </a:cubicBezTo>
                <a:cubicBezTo>
                  <a:pt x="1449" y="1130"/>
                  <a:pt x="1446" y="1110"/>
                  <a:pt x="1454" y="1096"/>
                </a:cubicBezTo>
                <a:cubicBezTo>
                  <a:pt x="1462" y="1084"/>
                  <a:pt x="1474" y="1074"/>
                  <a:pt x="1482" y="1062"/>
                </a:cubicBezTo>
                <a:cubicBezTo>
                  <a:pt x="1490" y="1023"/>
                  <a:pt x="1500" y="1028"/>
                  <a:pt x="1527" y="1001"/>
                </a:cubicBezTo>
                <a:cubicBezTo>
                  <a:pt x="1535" y="980"/>
                  <a:pt x="1550" y="974"/>
                  <a:pt x="1561" y="956"/>
                </a:cubicBezTo>
                <a:cubicBezTo>
                  <a:pt x="1575" y="934"/>
                  <a:pt x="1588" y="912"/>
                  <a:pt x="1600" y="889"/>
                </a:cubicBezTo>
                <a:cubicBezTo>
                  <a:pt x="1638" y="817"/>
                  <a:pt x="1673" y="744"/>
                  <a:pt x="1717" y="676"/>
                </a:cubicBezTo>
                <a:lnTo>
                  <a:pt x="1745" y="621"/>
                </a:lnTo>
                <a:cubicBezTo>
                  <a:pt x="1745" y="621"/>
                  <a:pt x="1745" y="621"/>
                  <a:pt x="1745" y="621"/>
                </a:cubicBezTo>
                <a:cubicBezTo>
                  <a:pt x="1757" y="587"/>
                  <a:pt x="1771" y="554"/>
                  <a:pt x="1784" y="520"/>
                </a:cubicBezTo>
                <a:cubicBezTo>
                  <a:pt x="1802" y="473"/>
                  <a:pt x="1812" y="422"/>
                  <a:pt x="1829" y="374"/>
                </a:cubicBezTo>
                <a:cubicBezTo>
                  <a:pt x="1831" y="359"/>
                  <a:pt x="1832" y="345"/>
                  <a:pt x="1835" y="330"/>
                </a:cubicBezTo>
                <a:cubicBezTo>
                  <a:pt x="1838" y="317"/>
                  <a:pt x="1846" y="291"/>
                  <a:pt x="1846" y="291"/>
                </a:cubicBezTo>
                <a:cubicBezTo>
                  <a:pt x="1849" y="257"/>
                  <a:pt x="1851" y="228"/>
                  <a:pt x="1863" y="196"/>
                </a:cubicBezTo>
                <a:cubicBezTo>
                  <a:pt x="1849" y="157"/>
                  <a:pt x="1859" y="119"/>
                  <a:pt x="1835" y="84"/>
                </a:cubicBezTo>
                <a:cubicBezTo>
                  <a:pt x="1833" y="69"/>
                  <a:pt x="1835" y="53"/>
                  <a:pt x="1829" y="39"/>
                </a:cubicBezTo>
                <a:cubicBezTo>
                  <a:pt x="1828" y="37"/>
                  <a:pt x="1796" y="28"/>
                  <a:pt x="1795" y="28"/>
                </a:cubicBezTo>
                <a:cubicBezTo>
                  <a:pt x="1770" y="19"/>
                  <a:pt x="1736" y="11"/>
                  <a:pt x="17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06440" y="3108240"/>
            <a:ext cx="119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t sh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162560" y="36576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62D-C55E-491A-A818-C5573B1ECB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oehm’s Spiral Model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es to accommodate infrequent change during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nd of the spiral invol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ve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verify next leve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4 - 09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949-5D0C-48E4-A4F8-3A6D07F329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2:56Z</dcterms:created>
  <dc:creator>clarkep</dc:creator>
  <dc:description/>
  <dc:language>en-US</dc:language>
  <cp:lastModifiedBy>clarkep</cp:lastModifiedBy>
  <dcterms:modified xsi:type="dcterms:W3CDTF">2004-09-09T16:54:32Z</dcterms:modified>
  <cp:revision>138</cp:revision>
  <dc:subject/>
  <dc:title>Slide 1</dc:title>
</cp:coreProperties>
</file>