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E61-0E7A-45BD-8543-32E98415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B52-1FAE-4257-8C80-0E40173D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85C-8027-402B-B2C1-124DC8C3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74A-03F5-4930-9C9D-B65D3815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725-ABF3-4B7A-AE2D-3AECD2BF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018-0007-4B9D-8E69-CFD9056D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77F-853B-4088-9BDF-D33DEE1B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949-D2E3-489A-8914-5F621A02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837-6F95-42A0-96DA-80F9CADE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043-3E6D-48BD-ABBB-35FEDC4A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FF5-859A-43BD-B165-C45B7F9A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79B-FFE8-4F98-8B54-E81B3EEA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F6FB-3293-40F4-833B-FB1AF4A5F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roduction to Unified Modeling Language (UM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743200"/>
            <a:ext cx="6248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- Class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UML</a:t>
            </a:r>
            <a:fld id="{2B954F6E-516E-45AE-BE1A-E03BEB0F30F0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5 – 09/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85800" y="6132600"/>
            <a:ext cx="62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Note:  See example use case on the course hom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agrams in U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dia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graphical representation of a set of elements, most often rendered a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nected 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t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ings)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elationship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s in 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3809880"/>
            <a:ext cx="228600" cy="1752840"/>
          </a:xfrm>
          <a:custGeom>
            <a:avLst/>
            <a:gdLst>
              <a:gd name="textAreaLeft" fmla="*/ 0 w 228600"/>
              <a:gd name="textAreaRight" fmla="*/ 8244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27920" y="4255920"/>
            <a:ext cx="35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c view of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28A-9434-44C1-B7AF-489C7881C4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agrams in UML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s in UML c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tate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66ff"/>
                </a:solidFill>
                <a:latin typeface="Comic Sans MS"/>
              </a:rPr>
              <a:t>use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gram shows a set of use cases and actors (a special kind of class) and their relationshi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, a use case describes a function provided by the system from an external point of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67652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2920" y="2286000"/>
            <a:ext cx="39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ynamic view of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C61-3ABE-4DA0-9F54-BCE47F180B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ample of Use Case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1828800"/>
            <a:ext cx="259056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2362320"/>
            <a:ext cx="12952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3352680"/>
            <a:ext cx="12952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4419720"/>
            <a:ext cx="12952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7840" y="17524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W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9960" y="2895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8880" y="3962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5760" y="50292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26840" y="2612880"/>
            <a:ext cx="1130040" cy="1101600"/>
            <a:chOff x="726840" y="2612880"/>
            <a:chExt cx="1130040" cy="1101600"/>
          </a:xfrm>
        </p:grpSpPr>
        <p:sp>
          <p:nvSpPr>
            <p:cNvPr id="79" name=""/>
            <p:cNvSpPr/>
            <p:nvPr/>
          </p:nvSpPr>
          <p:spPr>
            <a:xfrm>
              <a:off x="1163520" y="2612880"/>
              <a:ext cx="191880" cy="1951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60360" y="2786040"/>
              <a:ext cx="1440" cy="174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10960" y="2841480"/>
              <a:ext cx="28728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56960" y="2960640"/>
              <a:ext cx="393840" cy="19512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18"/>
                  </a:moveTo>
                  <a:lnTo>
                    <a:pt x="19" y="0"/>
                  </a:lnTo>
                  <a:lnTo>
                    <a:pt x="37" y="1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6840" y="3146400"/>
              <a:ext cx="113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tch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2640" y="3440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824880" y="4060800"/>
            <a:ext cx="2041200" cy="1101600"/>
            <a:chOff x="6824880" y="4060800"/>
            <a:chExt cx="2041200" cy="1101600"/>
          </a:xfrm>
        </p:grpSpPr>
        <p:sp>
          <p:nvSpPr>
            <p:cNvPr id="86" name=""/>
            <p:cNvSpPr/>
            <p:nvPr/>
          </p:nvSpPr>
          <p:spPr>
            <a:xfrm>
              <a:off x="7259760" y="4060800"/>
              <a:ext cx="191880" cy="1951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56600" y="4233960"/>
              <a:ext cx="1440" cy="174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07200" y="4289400"/>
              <a:ext cx="28728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53200" y="4408560"/>
              <a:ext cx="393840" cy="19512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18"/>
                  </a:moveTo>
                  <a:lnTo>
                    <a:pt x="19" y="0"/>
                  </a:lnTo>
                  <a:lnTo>
                    <a:pt x="37" y="1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24880" y="4594320"/>
              <a:ext cx="204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tchRepair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38880" y="488808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 flipV="1">
            <a:off x="1981080" y="2666520"/>
            <a:ext cx="198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3048120"/>
            <a:ext cx="1904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62720" y="44197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800" y="5218200"/>
            <a:ext cx="28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case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cribing the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f a simple wat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0B2-F04F-4A8D-A0C8-E55888FD78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se Case Diagram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ntification of actors and use cases results in the definition of the boundary of the system i.e., identify tasks accomplished by system and tasks accomplished by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s are outside the boundary of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are inside the boundary of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7F8-C7A5-454B-AA46-053549403A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ass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class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s the system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tributes (data items, instance variabl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mber functions, methods) and their relations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named property of a class that describes a range of values that instances of the property may h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implementation of a service that can be requested from any object of the class to affect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E6F-2F10-4E13-A8B9-ED8585232B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ample of Class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276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3400" y="27432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9760" y="27432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3124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27432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124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36120" y="2743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124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486400"/>
            <a:ext cx="1676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6172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1800" y="551016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&lt;class 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5867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5520" y="5815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&lt;attribute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8480" y="6119640"/>
            <a:ext cx="13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&lt;operation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1143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1676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07840" y="11430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W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1523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828800"/>
            <a:ext cx="2362320" cy="914400"/>
          </a:xfrm>
          <a:custGeom>
            <a:avLst/>
            <a:gdLst/>
            <a:ahLst/>
            <a:rect l="l" t="t" r="r" b="b"/>
            <a:pathLst>
              <a:path w="1488" h="576">
                <a:moveTo>
                  <a:pt x="1488" y="0"/>
                </a:moveTo>
                <a:lnTo>
                  <a:pt x="1488" y="192"/>
                </a:lnTo>
                <a:lnTo>
                  <a:pt x="0" y="192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828800"/>
            <a:ext cx="91440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480" y="0"/>
                </a:moveTo>
                <a:lnTo>
                  <a:pt x="480" y="336"/>
                </a:lnTo>
                <a:lnTo>
                  <a:pt x="0" y="33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1828800"/>
            <a:ext cx="685800" cy="9144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0"/>
                </a:moveTo>
                <a:lnTo>
                  <a:pt x="0" y="336"/>
                </a:lnTo>
                <a:lnTo>
                  <a:pt x="432" y="336"/>
                </a:lnTo>
                <a:lnTo>
                  <a:pt x="432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1828800"/>
            <a:ext cx="2438280" cy="914400"/>
          </a:xfrm>
          <a:custGeom>
            <a:avLst/>
            <a:gdLst/>
            <a:ahLst/>
            <a:rect l="l" t="t" r="r" b="b"/>
            <a:pathLst>
              <a:path w="1536" h="576">
                <a:moveTo>
                  <a:pt x="0" y="0"/>
                </a:moveTo>
                <a:lnTo>
                  <a:pt x="0" y="192"/>
                </a:lnTo>
                <a:lnTo>
                  <a:pt x="1536" y="192"/>
                </a:lnTo>
                <a:lnTo>
                  <a:pt x="153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7800" y="1828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8000" y="1828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6760" y="1828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5000" y="1828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1800" y="236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6560" y="2438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58880" y="236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6280" y="236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40600" y="49528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9240" y="464832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553080" y="4495680"/>
            <a:ext cx="1833840" cy="14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92A-F99D-4B18-A331-64CF606387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equenc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grams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action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interaction, consisting of a set of objects and their relationships, including the messages that may be dispatched among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sequence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interaction diagram that emphasizes the time-ordering of mess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6D3-558A-4524-8FDC-C262387F7E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ample of a Sequence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15000" cy="5029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15280" y="209376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t_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2C1-C171-4404-A8B9-B052ED7BF8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ML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of Rational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1FE-6208-4B8D-B713-39A40F46FF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U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is a notation unify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ject Modeling Technique – Rumbaugh et al, 19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ch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och, 19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S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ject-Oriented Software Engineering – Jacobson et al. 199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Unified Modeling 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ML) is a standard language for writing software blueprints.  The UML maybe used to visualize, specify, construct, and document the artifacts of a software-intensive system. (Booch et al.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DFB-9109-4AD7-AF49-77547782E9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UM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is appropriate for modeling systems ranging from enterprise information systems to distributed Web-based applications and even to hard real time embedde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is very expres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is a 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Visual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Specif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Constru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Docum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353-2439-46D5-AED6-0F9E56AD58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UM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vides a vocabulary and rules for combining words in the vocabulary for the purpose of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sua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ach symbol in the UML notation represents well defined semantics.  UML can represent models unambigu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ecif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UML is used to specify models i.e., build models that are precise, unambiguous, and comple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610-1105-4F6F-80BF-2C14712B2B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UM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ruc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UML models can be mapped to entities in programming languages (PLs) e.g., C++, Java, or Visual Basic.  Note, entities in PLs can also be reverse engineered to produce UML mode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cumen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UML can be used to document artifacts produced at each stage of the software process.  For example, use case diagrams during requirements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A8B-B37A-46C9-A4CD-609D9AA9DE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UM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blocks of U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four kinds of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th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U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65A-AF58-4EDE-98B2-9CAA66389A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UM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nouns of UML models e.g., a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havio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ynamic parts of UML i.e., the verbs of the model representing behavior over time and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organizational parts of UML models e.g., packages, namesp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nota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xplanatory parts of UML models e.g., a n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D92-65E8-49BB-95E7-7DA312F739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UM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four kinds of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U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endency (between two thing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change to one thing may affect the semantics of the other 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escribes links i.e., a connection among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1FC-7C73-4C0C-8B54-11743BB095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UM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alization (specialization/generaliza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objects of a specialized elemen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hi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substitutable for object of the generalized elemen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pa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semantic relationship between classifiers, i.e., a classifier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pecifies a contract to be carried out by another classifier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5 - 09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7E2-2591-46D2-8678-7462E4A2C0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09-14T21:34:03Z</dcterms:modified>
  <cp:revision>201</cp:revision>
  <dc:subject/>
  <dc:title>Slide 1</dc:title>
</cp:coreProperties>
</file>