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C1CB-8876-4BE4-91B7-30B36F2E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943B-A434-437D-AB6A-F16D4CF7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403F-8D40-4DCD-AF5F-B599DEED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6DCF-05B3-4F0C-A45F-50C6E9D9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F0ED-DAC1-4FF0-A283-3D55CEA6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B3E5-B686-4A3A-BAAD-C49498C6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0D56-B2A3-4645-A50C-510E0448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C615-9EE6-4A0E-A8E9-65F4DD66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207A-F7B6-45BC-97BD-68135248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B556-A634-4FFF-B5CA-185A17DD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4E4F-C840-4824-B1C5-C2E88691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467F-6A08-46C5-BCD7-4F9F917D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546A-8F67-4B07-B9CF-4BF82B260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troduction to Unified Modeling Language (UML) co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99840" y="2743200"/>
            <a:ext cx="62485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- Classes 4 and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cha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ing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n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41160" y="228600"/>
            <a:ext cx="439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 4010 Class 6 – 09/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85800" y="6132600"/>
            <a:ext cx="62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Note:  See example use case on the course hom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xample of an Activity 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229600" cy="304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6 - 09/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785B-2AA6-4D9A-B44A-74DB853B2E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odeling Conce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rganized set of communicating parts designed for a specific purpose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urposeful collection of components that work together to achieve some obj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ub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art of a system.  Subsystems can usually operate as independent systems in their own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pon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hysical and replaceable part of a system that conforms to and provides the realization for a set of interf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6 - 09/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43CE-9500-45E8-B031-49317DB346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odeling Concepts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del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means for dealing with the complexity of systems and subsystem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ule of thumb is that each entity in a model should contain at most 7 +/- 2 part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[Miller, 1959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cuses on a subset of a model to make it understand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gical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used to visualize, specify, and document your decisions about the vocabulary of your domain and the structural and behavioral way things collabo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6 - 09/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2C78-6A33-495F-ACF5-996EC13DE1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odeling Concepts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hysical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used to construct the executabl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al things live in the conceptual world, the physical things live in the world of bits i.e., they can be executed on a mach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, in UML several logical views are carried over to their physical counterparts.  E.g., an interface for a class (logical model) is carried over to the physical component that realizes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6 - 09/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DCE7-AFFC-49A3-994D-4B195BC157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odeling Concepts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ta type, abstract data ty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stance, object,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erations,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neralization, superclass, subclass, abstract clas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of demonstrating that relevant details have been incorrectly represented or not represented at all.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tradic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typ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6 - 09/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5783-B564-4A5D-9142-5E333D20BA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ore Use Case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c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external entities that interact with the system.  E.g., ATM user, bank teller, authentication server, central data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se c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cribe the behavior of the system as seen from an actor’s point of 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se characterist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s a function provided by the system as a set of events that yields a visible result for the 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ors initiate a use case to access system function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6 - 09/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396B-1E1B-49BD-9623-D7F376B0C9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ore Use Case Diagram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se characteristics co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ases can initiate other use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ors and use cas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munic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.e., exchang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We will use the 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use case template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provided on the web page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o through sections of templ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66ff"/>
                </a:solidFill>
                <a:latin typeface="Comic Sans MS"/>
              </a:rPr>
              <a:t>scenari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instance of a use case describing a concrete set of 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ses describe all possible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6 - 09/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0EA6-2EEB-4716-BF0C-84D0E10BC0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ore Use Case Diagram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lid line in a use case diagram represent the communication between an actor and a use c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eal applications some use cases are part of several other use cases.  This is denoted by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lt;&lt;include&gt;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relationsh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se case can extend another use case by adding events.  This is denoted by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lt;&lt;extend&gt;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lationsh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6 - 09/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1283-A527-40B0-B075-85704D2C59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ore Use Case Diagram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se case can specialize a more general one by adding more deta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3200400"/>
            <a:ext cx="10670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3124080"/>
            <a:ext cx="19814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user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5905440" y="3771720"/>
            <a:ext cx="914400" cy="228600"/>
          </a:xfrm>
          <a:prstGeom prst="rightArrow">
            <a:avLst>
              <a:gd name="adj1" fmla="val 0"/>
              <a:gd name="adj2" fmla="val 1073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771320" y="4343400"/>
            <a:ext cx="110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ff"/>
                </a:solidFill>
                <a:latin typeface="Arial"/>
              </a:rPr>
              <a:t>Special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ff"/>
                </a:solidFill>
                <a:latin typeface="Arial"/>
              </a:rPr>
              <a:t>use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92600" y="2819520"/>
            <a:ext cx="99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ff"/>
                </a:solidFill>
                <a:latin typeface="Arial"/>
              </a:rPr>
              <a:t>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ff"/>
                </a:solidFill>
                <a:latin typeface="Arial"/>
              </a:rPr>
              <a:t>use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86400" y="4495680"/>
            <a:ext cx="19051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86400" y="2895480"/>
            <a:ext cx="1600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4724280"/>
            <a:ext cx="15238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e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95480" y="4648320"/>
            <a:ext cx="14479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k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00200" y="3429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00560" y="312408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extend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904760" y="5029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4724280"/>
            <a:ext cx="101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include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6 - 09/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3D52-0692-4ADA-BC37-CAB0CDDCE4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ore Class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tion conven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names are underl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names start with an uppercase le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names are un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ents a connection between two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bject dia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a set of objects and their relationships. 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quirements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lation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onnection among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6 - 09/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9E47-DF91-4A49-B1AC-2CD07C9BE0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verview of UML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four kinds of </a:t>
            </a:r>
            <a:r>
              <a:rPr b="1" lang="en-US" sz="2800" spc="-1" strike="noStrike">
                <a:solidFill>
                  <a:srgbClr val="0066ff"/>
                </a:solidFill>
                <a:latin typeface="Comic Sans MS"/>
              </a:rPr>
              <a:t>relationshi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UM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pendency (between two thing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 change to one thing may affect the semantics of the other 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ssoci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describes links i.e., a connection among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6 - 09/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3C39-E2B7-4409-A52E-EEBCCDB1A8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ore Class Diagrams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pend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lationship that states a change in specification of one thing may affect another thing that uses it, but not necessarily the reverse. [Booch ’99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581280"/>
            <a:ext cx="2361960" cy="19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03440" y="358128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25320" y="3962520"/>
            <a:ext cx="142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nList:str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93240" y="4724280"/>
            <a:ext cx="228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(emp:Employe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tList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4343400"/>
            <a:ext cx="1524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52680" y="451944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20200" y="3376440"/>
            <a:ext cx="26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Dependency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39625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45720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6 - 09/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69FB-3949-479B-8DCA-0D073CA850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ore Class Diagrams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relationship between a general thing (superclass or parent) and a more specific kind of thing (subclass or child).  A.k.a “is-a-kind-of” relationship.  Note objects of the chil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y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d anywhere the parent may appear, but not the reverse. [Booch ’99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ild inherits the properties of it par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peration of the child that has the same signature as an operation of the parent overrides the operation of the pa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6 - 09/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BD4B-46EF-4755-A2B4-D66324002E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ore Class Diagram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1143000"/>
            <a:ext cx="1828800" cy="19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96400" y="116676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41360" y="1547640"/>
            <a:ext cx="12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n: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42440" y="2157480"/>
            <a:ext cx="174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Name():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SSN():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38480" y="15476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38480" y="2157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4191120"/>
            <a:ext cx="18288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40800" y="421488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3960" y="4595760"/>
            <a:ext cx="15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gID: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09440" y="5181480"/>
            <a:ext cx="19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MangID():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81080" y="459576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5105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243320"/>
            <a:ext cx="182880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944680" y="426708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88200" y="4648320"/>
            <a:ext cx="110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on: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89640" y="518148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Station():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86400" y="4648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5105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4533840" y="3314520"/>
            <a:ext cx="761760" cy="228600"/>
          </a:xfrm>
          <a:prstGeom prst="rightArrow">
            <a:avLst>
              <a:gd name="adj1" fmla="val 0"/>
              <a:gd name="adj2" fmla="val 89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819520" y="3809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4008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8098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44080" y="163656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53760" y="468468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der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6 - 09/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0503-B0C4-4F2A-AA2C-ACA5F514BA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verview of UML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eneralization (specialization/generalizatio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objects of a specialized element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chi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re substitutable for object of the generalized element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par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a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 semantic relationship between classifiers, i.e., a classifier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specifies a contract to be carried out by another classifier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6 - 09/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D242-965A-4B2B-826B-24D9CAC800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xample of Use Case 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828800"/>
            <a:ext cx="259056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2362320"/>
            <a:ext cx="129528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3352680"/>
            <a:ext cx="129528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4419720"/>
            <a:ext cx="129528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7840" y="175248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W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69960" y="289548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68880" y="39625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65760" y="502920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26840" y="2612880"/>
            <a:ext cx="1130040" cy="1101600"/>
            <a:chOff x="726840" y="2612880"/>
            <a:chExt cx="1130040" cy="1101600"/>
          </a:xfrm>
        </p:grpSpPr>
        <p:sp>
          <p:nvSpPr>
            <p:cNvPr id="59" name=""/>
            <p:cNvSpPr/>
            <p:nvPr/>
          </p:nvSpPr>
          <p:spPr>
            <a:xfrm>
              <a:off x="1163520" y="2612880"/>
              <a:ext cx="191880" cy="19512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60360" y="2786040"/>
              <a:ext cx="1440" cy="1746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10960" y="2841480"/>
              <a:ext cx="28728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056960" y="2960640"/>
              <a:ext cx="393840" cy="19512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0" y="18"/>
                  </a:moveTo>
                  <a:lnTo>
                    <a:pt x="19" y="0"/>
                  </a:lnTo>
                  <a:lnTo>
                    <a:pt x="37" y="18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26840" y="3146400"/>
              <a:ext cx="113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atchU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42640" y="344016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6824880" y="4060800"/>
            <a:ext cx="2041200" cy="1101600"/>
            <a:chOff x="6824880" y="4060800"/>
            <a:chExt cx="2041200" cy="1101600"/>
          </a:xfrm>
        </p:grpSpPr>
        <p:sp>
          <p:nvSpPr>
            <p:cNvPr id="66" name=""/>
            <p:cNvSpPr/>
            <p:nvPr/>
          </p:nvSpPr>
          <p:spPr>
            <a:xfrm>
              <a:off x="7259760" y="4060800"/>
              <a:ext cx="191880" cy="19512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356600" y="4233960"/>
              <a:ext cx="1440" cy="1746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07200" y="4289400"/>
              <a:ext cx="28728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153200" y="4408560"/>
              <a:ext cx="393840" cy="19512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0" y="18"/>
                  </a:moveTo>
                  <a:lnTo>
                    <a:pt x="19" y="0"/>
                  </a:lnTo>
                  <a:lnTo>
                    <a:pt x="37" y="18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24880" y="4594320"/>
              <a:ext cx="204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atchRepairPer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238880" y="488808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 flipV="1">
            <a:off x="1981080" y="2666520"/>
            <a:ext cx="198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33720" y="3048120"/>
            <a:ext cx="19047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562720" y="4419720"/>
            <a:ext cx="1371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800" y="5218200"/>
            <a:ext cx="286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 case 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scribing the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f a simple wat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6 - 09/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9590-2E25-4358-A8E7-43DF8AAB5B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xample of Class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743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32767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3400" y="27432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31240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0" y="2743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69760" y="27432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31240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2743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49760" y="27432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31240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2743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36120" y="2743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00800" y="31240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5486400"/>
            <a:ext cx="16765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6172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91800" y="5510160"/>
            <a:ext cx="144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&lt;class 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5867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45520" y="581508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&lt;attribute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8480" y="6119640"/>
            <a:ext cx="13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&lt;operation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11430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16765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7840" y="114300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W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15238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1828800"/>
            <a:ext cx="2362320" cy="914400"/>
          </a:xfrm>
          <a:custGeom>
            <a:avLst/>
            <a:gdLst/>
            <a:ahLst/>
            <a:rect l="l" t="t" r="r" b="b"/>
            <a:pathLst>
              <a:path w="1488" h="576">
                <a:moveTo>
                  <a:pt x="1488" y="0"/>
                </a:moveTo>
                <a:lnTo>
                  <a:pt x="1488" y="192"/>
                </a:lnTo>
                <a:lnTo>
                  <a:pt x="0" y="192"/>
                </a:lnTo>
                <a:lnTo>
                  <a:pt x="0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1828800"/>
            <a:ext cx="914400" cy="914400"/>
          </a:xfrm>
          <a:custGeom>
            <a:avLst/>
            <a:gdLst/>
            <a:ahLst/>
            <a:rect l="l" t="t" r="r" b="b"/>
            <a:pathLst>
              <a:path w="480" h="576">
                <a:moveTo>
                  <a:pt x="480" y="0"/>
                </a:moveTo>
                <a:lnTo>
                  <a:pt x="480" y="336"/>
                </a:lnTo>
                <a:lnTo>
                  <a:pt x="0" y="336"/>
                </a:lnTo>
                <a:lnTo>
                  <a:pt x="0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1828800"/>
            <a:ext cx="685800" cy="914400"/>
          </a:xfrm>
          <a:custGeom>
            <a:avLst/>
            <a:gdLst/>
            <a:ahLst/>
            <a:rect l="l" t="t" r="r" b="b"/>
            <a:pathLst>
              <a:path w="432" h="576">
                <a:moveTo>
                  <a:pt x="0" y="0"/>
                </a:moveTo>
                <a:lnTo>
                  <a:pt x="0" y="336"/>
                </a:lnTo>
                <a:lnTo>
                  <a:pt x="432" y="336"/>
                </a:lnTo>
                <a:lnTo>
                  <a:pt x="432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00600" y="1828800"/>
            <a:ext cx="2438280" cy="914400"/>
          </a:xfrm>
          <a:custGeom>
            <a:avLst/>
            <a:gdLst/>
            <a:ahLst/>
            <a:rect l="l" t="t" r="r" b="b"/>
            <a:pathLst>
              <a:path w="1536" h="576">
                <a:moveTo>
                  <a:pt x="0" y="0"/>
                </a:moveTo>
                <a:lnTo>
                  <a:pt x="0" y="192"/>
                </a:lnTo>
                <a:lnTo>
                  <a:pt x="1536" y="192"/>
                </a:lnTo>
                <a:lnTo>
                  <a:pt x="1536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7800" y="1828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8000" y="1828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96760" y="1828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35000" y="1828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1800" y="2362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6560" y="2438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58880" y="2362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16280" y="2362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0600" y="495288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69240" y="464832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s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553080" y="4495680"/>
            <a:ext cx="1833840" cy="14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6 - 09/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27BA-13C9-453E-9EA1-C482E7989A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xample of a Sequence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5715000" cy="5029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15280" y="209376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t_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6 - 09/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8DAB-7066-4A4B-8BA9-322B7FABC3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UML Diagrams - State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66ff"/>
                </a:solidFill>
                <a:latin typeface="Comic Sans MS"/>
              </a:rPr>
              <a:t>statech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agram shows a state machine that describes the behavior of an individual object.  A state machine consist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hings that trigger a transition), and activities (the response to a transi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charts focus on the external events that result in an object changing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 when modeling reactive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useful when validating the specification of a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6 - 09/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FCED-4D6C-41C7-BD6E-0291CA2C01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xample of Statechart 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504200" cy="4079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43880" y="1179360"/>
            <a:ext cx="282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tatechart diagram for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SetTime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use c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6 - 09/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19C7-DC52-46B9-ADDA-5C9DD68825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UML Diagrams -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800" spc="-1" strike="noStrike">
                <a:solidFill>
                  <a:srgbClr val="0066ff"/>
                </a:solidFill>
                <a:latin typeface="Comic Sans MS"/>
              </a:rPr>
              <a:t>activity dia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pecial kind of statechart diagram that shows the flow from activity to activity within a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model the functionality of the system w.r.t. the flow of control among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ies are states that represent the execution of a set of op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6 - 09/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E7DA-741F-4715-921C-8A28A9A4F1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22:56Z</dcterms:created>
  <dc:creator>clarkep</dc:creator>
  <dc:description/>
  <dc:language>en-US</dc:language>
  <cp:lastModifiedBy>clarkep</cp:lastModifiedBy>
  <dcterms:modified xsi:type="dcterms:W3CDTF">2004-09-16T21:13:50Z</dcterms:modified>
  <cp:revision>254</cp:revision>
  <dc:subject/>
  <dc:title>Slide 1</dc:title>
</cp:coreProperties>
</file>