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A38-2BB3-4672-B356-9648B80B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D15-C526-4AE6-9408-A0E6908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DB3-CCFD-4D43-BB9C-417C4F72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B50-BE54-452A-A555-2E9CE003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0B7-BC14-4889-832B-57EEDF91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200-3644-4261-A2B0-EE57E6A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AE6-E191-4A65-9933-8507B1D4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9C4-FC22-4436-9CA3-EB7CDE0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946-C6FF-46E1-8CB5-39E3CB9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41D-CE71-408F-A313-5B91B0B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EEB-F7E1-43D9-B79B-FCFEE7F0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CBC-0B31-4174-BBCF-F0755F2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C8A3-3479-4D44-B9B7-D1DEDD09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view of Software Project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70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– Clas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diagram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Software Project Management 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7 – 09/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is a collaborative effort.  Involves domain experts, analysts, designers, programmers, manag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mmunication is essent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type of information exchange that has defined objectives an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mecha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tool or procedure that can be used to transmit and receive information and support a communication m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A14-9CD6-454F-BE5C-E9E6BF59E1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 of commun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blem defn., client reviews, project reviews, inspection/walkthroughs, status review, brainstorming, releases, postmor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-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quest for clarification, request for change, issu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Go through Tables 3.1 and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93F-39D5-4154-90DD-8154BFD51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f commun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allway conversations, questionnaires and structured reviews, meetings, same-time, and different-place group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mail, newsgroups, WWW, and Lotus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8BE-9BE0-4581-BD11-0F774E019A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S/W Project Manag.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facili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ing the meeting and guiding its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the agenda describing the objective and the scope of the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 t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recording the meeting i.e. information for the di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keeping track of time and notifying the facilitator if a discussion consumes more time than is allocated.  A vote might be required to continue discussion or move on to the next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CC3-62A6-472A-BE67-D9EB999BC7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team leader for each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diary (minutes) of the meetings and other activities e.g. class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limit the number of uses cas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(3) per team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eam meetings each team member should present the use cases they worked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B4F-7187-4C0C-AD19-B9F8AC95F4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ass of the use cases should be completed by 09/28.  That is, use cases should be written and UML diagrams with documentation comp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use case identify the non-functional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ask a team member from each team to present a use case in class week 09/28, 09/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FF5-AEDF-47D5-989A-C318ACF63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 document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C9A-64A0-4B08-8C3C-6A44A8198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names are underl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tart with an uppercas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names are u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connection between two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set of objects and their relationships. 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ment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nection amo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12B-4320-4B53-A63D-FC3949D5E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ship that states a change in specification of one thing may affect another thing that uses it, but not necessarily the reverse. [Booch ’99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581280"/>
            <a:ext cx="2361960" cy="19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3440" y="35812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5320" y="396252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nList:st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3240" y="4724280"/>
            <a:ext cx="228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(emp:Employ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Lis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34340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519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0200" y="33764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Dependency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9625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E60-0FCE-4C98-8A22-A2C22870D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lationship between a general thing (superclass or parent) and a more specific kind of thing (subclass or child).  A.k.a “is-a-kind-of” relationship.  Note objects of the chil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anywhere the parent may appear, but not the reverse. [Booch ’99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inherits the properties of it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ation of the child that has the same signature as an operation of the parent overrides the operation of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AB5-FAF0-47FB-BCE7-5948544AE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143000"/>
            <a:ext cx="1828800" cy="19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6400" y="11667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1360" y="154764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n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42440" y="2157480"/>
            <a:ext cx="174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Name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SN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476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2157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191120"/>
            <a:ext cx="18288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0800" y="42148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3960" y="459576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gID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9440" y="518148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MangID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5957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4243320"/>
            <a:ext cx="1828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4680" y="42670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8200" y="46483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: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9640" y="51814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tation():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533840" y="3314520"/>
            <a:ext cx="761760" cy="228600"/>
          </a:xfrm>
          <a:prstGeom prst="rightArrow">
            <a:avLst>
              <a:gd name="adj1" fmla="val 0"/>
              <a:gd name="adj2" fmla="val 89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819520" y="3809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809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7120" y="1676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53760" y="46846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6520" y="29718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B44-C520-4509-ADAA-98D68B304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ructural relationship that specifies that objects of one thing are connected to objects of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ly represented as a solid line connecting the same or different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or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 to assoc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cribes nature of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dentifies role played in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how many objects may be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greg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s a “whole/part” or “has-a” relationship; special kind of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D1F-7025-4008-BCEF-AC7B0BE75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0574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0574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4280" y="2362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2040" y="23623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05840" y="18892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82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2760" y="12193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5" idx="1"/>
            <a:endCxn id="93" idx="0"/>
          </p:cNvCxnSpPr>
          <p:nvPr/>
        </p:nvCxnSpPr>
        <p:spPr>
          <a:xfrm flipH="1">
            <a:off x="3049200" y="1403280"/>
            <a:ext cx="761040" cy="48672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3"/>
            <a:endCxn id="94" idx="0"/>
          </p:cNvCxnSpPr>
          <p:nvPr/>
        </p:nvCxnSpPr>
        <p:spPr>
          <a:xfrm>
            <a:off x="5048280" y="1403280"/>
            <a:ext cx="588240" cy="50256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041000" y="3200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8" idx="1"/>
            <a:endCxn id="91" idx="2"/>
          </p:cNvCxnSpPr>
          <p:nvPr/>
        </p:nvCxnSpPr>
        <p:spPr>
          <a:xfrm flipH="1" flipV="1">
            <a:off x="3274200" y="2698200"/>
            <a:ext cx="764280" cy="68652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3"/>
            <a:endCxn id="92" idx="2"/>
          </p:cNvCxnSpPr>
          <p:nvPr/>
        </p:nvCxnSpPr>
        <p:spPr>
          <a:xfrm flipV="1">
            <a:off x="4717800" y="2698200"/>
            <a:ext cx="592920" cy="68652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447920" y="4419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419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572000"/>
            <a:ext cx="30492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648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920" y="434340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56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5520" y="5181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51400" y="5181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9800" y="51814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V="1">
            <a:off x="5028840" y="4799880"/>
            <a:ext cx="686520" cy="4136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0"/>
          </p:cNvCxnSpPr>
          <p:nvPr/>
        </p:nvCxnSpPr>
        <p:spPr>
          <a:xfrm flipH="1" flipV="1">
            <a:off x="6629040" y="4952160"/>
            <a:ext cx="10080" cy="22932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>
            <a:off x="2437920" y="4952520"/>
            <a:ext cx="1080" cy="26136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582720" y="19810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686120" y="2095200"/>
            <a:ext cx="190440" cy="114480"/>
          </a:xfrm>
          <a:prstGeom prst="flowChartExtra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3623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4400" y="1143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2E1-463A-4A0F-9D04-EFC36AAA2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diagrams ar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scribing the structure of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alysis to formalize domai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represent participating objects found in use cases and sequence diagrams, and describe their attributes and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ing of model elements, such as use cases, classes, or activities, defining scopes of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9B9-F458-4891-BB70-6292DD1FB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re used to model complexity in a system (see p. 67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743200"/>
            <a:ext cx="28958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438280"/>
            <a:ext cx="175284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lnTo>
                  <a:pt x="0" y="0"/>
                </a:lnTo>
                <a:lnTo>
                  <a:pt x="624" y="0"/>
                </a:lnTo>
                <a:lnTo>
                  <a:pt x="62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2720" y="24382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971800"/>
            <a:ext cx="9907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12320" y="335268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733920"/>
            <a:ext cx="9903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572000"/>
            <a:ext cx="9907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080" y="50292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Gr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7720" y="419112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Gr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895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09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29200" y="34290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1911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4200" y="5029200"/>
            <a:ext cx="21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ome of th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cases in the F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tud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3960" y="40384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29960" y="5257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7 - 09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0A9-90F9-4033-8EB8-27FD256C4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21T19:33:54Z</dcterms:modified>
  <cp:revision>283</cp:revision>
  <dc:subject/>
  <dc:title>Slide 1</dc:title>
</cp:coreProperties>
</file>