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D9F-0CF9-4F44-A7C2-E915836B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481-1979-4B43-A2B9-37E3C20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3A7-3A33-44F4-A040-08CBED8F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065-21CB-42A2-A782-CFC896C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BD2-F9A5-4F01-B6F3-482494FA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422-FD02-4D36-B5A8-A2F904D3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392-4E8E-4F19-A646-72B5356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6D4-0BAE-48BB-9B23-E5FCFF9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E80-2AAD-4E9A-88F7-320156D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9AD-08D3-4B6C-BEDB-8616958F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0D6-795D-4FCF-8439-6DF62C9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A49-E164-4F69-A7EA-4F20AF0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2ED3-8402-4467-8931-4ABCB4433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view of Software Project Management co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70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– Clas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8 – 09/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veloping a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asks to be completed i.e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 break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duration for each task in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y dependencies between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able with the abo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formation in table to create a Gantt or PERT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D4C-28B7-459C-A6DF-5BC5A94872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veloping a Schedule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523880"/>
          <a:ext cx="8229600" cy="3191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(day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, T3 (M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, T5 (M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139040" y="5562720"/>
            <a:ext cx="69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 – represents a task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 – represents a mil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2DC-A67D-43F5-A93B-5F56B91AC2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ing a Schedule – Example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447920"/>
          <a:ext cx="8458200" cy="4367160"/>
        </p:xfrm>
        <a:graphic>
          <a:graphicData uri="http://schemas.openxmlformats.org/drawingml/2006/table">
            <a:tbl>
              <a:tblPr/>
              <a:tblGrid>
                <a:gridCol w="939960"/>
                <a:gridCol w="1042920"/>
                <a:gridCol w="446040"/>
                <a:gridCol w="447480"/>
                <a:gridCol w="449280"/>
                <a:gridCol w="446400"/>
                <a:gridCol w="447480"/>
                <a:gridCol w="496800"/>
                <a:gridCol w="447840"/>
                <a:gridCol w="350640"/>
                <a:gridCol w="351000"/>
                <a:gridCol w="350640"/>
                <a:gridCol w="351000"/>
                <a:gridCol w="442800"/>
                <a:gridCol w="503280"/>
                <a:gridCol w="447840"/>
                <a:gridCol w="4968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sk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42800" y="5979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Gna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447-5B21-401C-83E1-7CCAE54A0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ing a Schedule – Example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040" y="54100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ER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51460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2971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7960" y="2514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352680"/>
            <a:ext cx="6858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9000" y="2743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0240" y="2743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2971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" y="30700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09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971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51460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971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3240" y="2514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4280" y="2743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5520" y="2743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971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971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733920"/>
            <a:ext cx="990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9720" y="3733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10760" y="3962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1640" y="39625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4191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191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819520"/>
            <a:ext cx="30456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581280"/>
            <a:ext cx="6858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5480" y="32986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09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819520"/>
            <a:ext cx="228600" cy="7617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5053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38080" y="2819160"/>
            <a:ext cx="533520" cy="5331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35053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560" y="3505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660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7120" y="3733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9625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9625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8769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440" y="4876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448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5720" y="51055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33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533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038480"/>
            <a:ext cx="990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59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4720" y="40384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57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7360" y="4267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44956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05920" y="44956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5791320"/>
            <a:ext cx="6858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52920" y="55087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0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321080"/>
            <a:ext cx="6858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8680" y="40384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0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72000" y="3504960"/>
            <a:ext cx="457200" cy="152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886200"/>
            <a:ext cx="609480" cy="457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4343400"/>
            <a:ext cx="53352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4724280"/>
            <a:ext cx="0" cy="8384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80" y="1260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Comic Sans MS"/>
              </a:rPr>
              <a:t>Critical path in green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27440" y="126036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e there any other critical pat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3733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257800" y="44953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078-226B-43B7-B89B-1656A7D88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 Management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ject planning an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onitoring and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selection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writing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merville 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D79-1E93-4D74-8945-DC25CE389E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riefly describes the project, and sets out the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ject 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people on the team are organized i.e.,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nalysis – describes possible risks e.g. h/w unavailability, requirements change, technology chang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rdware and software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scribes the h/w and s/w required to carry out th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9EA-CABA-4471-9D59-597916B0CB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 Pla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rk break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dentification of milestones and deliver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ject sched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scribes dependencies between activities, estimation of time required to reach each milestone and delive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report (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eliverab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re should be a section named “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oject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consisting of at least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troduction, project organization, h/w and s/w requirements, work breakdown and project sched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5C5-323D-4180-8FCA-BF7E48212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is a collaborative effort.  Involves domain experts, analysts, designers, programmers, manag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mmunication is essent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type of information exchange that has defined objectives an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mecha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tool or procedure that can be used to transmit and receive information and support a communication m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28F-6AC0-4272-BA18-BA053F52F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 of commun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blem defn., client reviews, project reviews, inspection/walkthroughs, status review, brainstorming, releases, postmor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-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quest for clarification, request for change, issu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Go through Tables 3.1 and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A23-E02A-4D39-9937-31FE442BD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f commun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allway conversations, questionnaires and structured reviews, meetings, same-time, and different-place group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mail, newsgroups, WWW, and Lotus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AE8-51D3-4FA8-861F-C42AD09CF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facili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ing the meeting and guiding its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the agenda describing the objective and the scope of the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 t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recording the meeting i.e. information for the di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keeping track of time and notifying the facilitator if a discussion consumes more time than is allocated.  A vote might be required to continue discussion or move on to the next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2A2-75DD-41F0-92E0-461B41A67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,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ic unit of work that can be managed and that consumes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sk includes a description, a duration, and is assigned to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s are related by depend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s dependencies are relationships between individual tasks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constraints can be used to make sure a project is on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ee Table 3-4 and Figure 3-21 and 3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A61-A6A7-4260-9A9A-817E32335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sk model contains the tasks, their dependencies, their constraints, and their planned d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ched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pping of tasks onto time; Each task is assigned planned start and end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ot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chart - Gant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network – PERT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C1F-F9B5-4A76-9196-7244C40BC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hedule –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ntt ch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bar chart where the horizontal axis represents time and the vertical axis the different tasks to b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are represented as bars whose length correspond to the planned duration of the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T Ch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yclic graph of tasks that represents a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time required to finish the project can be estimated by considering the longest path (in days) in the activity graph (the critical p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7CD-0036-40EC-8F19-86643CB542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chedule – No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T Chart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on the critical path are the most important.  That is, a delay in any of these tasks will result in a delay in the overall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Gnatt and PERT ch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tools for planning a project and tracking its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are only as good as the estimations they re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usually comes with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present tasks to be done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8 - 09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745-C633-45ED-9B2D-87A6D925A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23T22:22:18Z</dcterms:modified>
  <cp:revision>331</cp:revision>
  <dc:subject/>
  <dc:title>Slide 1</dc:title>
</cp:coreProperties>
</file>