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EDA-8AB1-41E4-A55D-49257743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6BE-0D57-4BF3-8A65-84D6035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154-B14B-4E23-9A65-0E93DE9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AE7-D0D3-47B0-BE55-E4468417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D15-9F90-4D1E-B03E-0B59367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46C-B895-4B6C-9D84-7E64A761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0F2-874A-433E-890B-45E55D88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9EF-BB52-4AEC-AE3E-39FBEA06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363-AB79-4229-AD75-40BD1AA7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254-530E-4ED0-A77E-28518B2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E84-159A-4A1E-826E-73793D9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009-A5F5-40FD-AFC1-7CA60D7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FB9-69D4-4C6E-AEC6-40189B4D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quirement Eli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274284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– Class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Validation and Ver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9 – 09/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system requirement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ystem shall provide the CS User with a screen to enter the following data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r id, na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machine name (if any)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atio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hort description of the proble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(The highlighted words are the required field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S user shall send the request by selecting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ystem shall notify the CS user if the request was submitted correctly by displaying a message on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the request is received the system shall generat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quest reco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allocat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que request 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092-1BF2-4067-AFD4-39BF74A5B4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irectly concerned with the specific functions delivered by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unctional requirements relate to the system as a whole rather than individual system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failure to meet an individual functional requirement may degrade the system, failure to meet a non-functional requirement may make the whole system unu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8BF-3E45-4F8A-9E19-223C0EF2B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ease with which a user learn to operate, prepare inputs for, and interpret outputs of a system or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ability of a system or component to perform its required functions under stated conditions for a specified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cerned with quantifiable attributes of the system, e.g., response time, throughput, availability and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0DF-FAD2-4391-A150-B809C531B2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n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ppor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cerned with the ease of changes to the system after deploy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– the ability to change a system to deal with additional domain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ability – the ability to change the system to deal with the new technology or to fix de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739-DEF1-418F-9FE2-32CB84CF9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functional Requirements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990720"/>
          <a:ext cx="8229600" cy="436068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d transactions/sec., Screen refresh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bytes, Number of RAM C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Time, Number of help fr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time to failure, Probability of unavailabilit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 of failure occurrence,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restart after failur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events causing failur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data corruption on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target-dependent statement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targe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384840" y="57913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mervill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003-8C67-41C6-B256-57A788BB6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ftware Requirements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 Purpose 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Scope 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Definitions, acronyms, and 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 Overview of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ystem (limitations and probl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po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 Functional requirements (in terms of us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 Non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 System models e.g., use case, ob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e outline we will use for the SRD is online - Project Deliverable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5FF-96C9-4DBA-9C2C-420CF77FF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quirements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hecking that the specification is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rrect, complete, consistent, unambiguous,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 real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rrec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– accurately represents the client’s view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all possible scenarios are described including exceptional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does not contradic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819-A423-4AEA-B851-A75AAC856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quirements Valid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Unambiguou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exactly one system is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Realist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system can be implemented with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quirement validation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Unicode MS"/>
              </a:rPr>
              <a:t>Requirement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Unicode MS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st cas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utomated consistency analysis (e.g. R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3A2-C733-45B8-89F5-1AC3E9ED3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quirements Valid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quiremen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Verifiability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Is the requirement as stated realistically tes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Comprehensibility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Is the requirement properly understood by the clients or end-users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Traceabilit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– Is the origin of the requirement clearly st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Adaptabilit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– Can the requirement be changed without large-scale effects on other system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4E4-B35B-41E3-8A70-38C11E17E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alism, Verifiability and Trace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SRS should be realistic, verifiable and trac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Realis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system can be implemented within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Verifiabl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once the system is built, repeatable tests can be designed to demonstrate that the system fulfills the S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Traceability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– each requirement can be traced throughout the s/w development to its corresponding system function(s) and vice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C4D-4AC5-4935-BC42-3AFF109EFB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Requirements Eli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requirement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eature that the system must have or a constraint that it must satisfy to be accepted by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Requirements engine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ims at defining the requirements of the system under co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ngineering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quirements elic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407-BC05-4CE0-BCB6-E276072D2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Requirements Eli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describing the purpose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quirements elicitation the developers gain an understanding of how the system should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s of the services and constraints of the system are referred to as the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re defined in the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oft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requirements specific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R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F0B-5440-4D95-9C43-EA79459C6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Requirements Elici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S serves as a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on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client and the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S is structured and formalized during analysis to produce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alysis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S is written in structured natural language – supports communication with client an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model is usually expressed in a formal or semiformal notation e.g. an object diagram – supports communication with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e figure 4-1 on Page 1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B84-EDB3-45DB-8B13-7A245CF91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Requirements Elici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 elicitation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Identifying 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ifferent types of users the systems will sup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Identifying scenar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velopers observe users and develop a set of detailed scenarios for typical functionality provided by the futur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Identifying use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velopers create use cases based on the scenarios, i.e., use detailed examples to describe the behavior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F87-1D3D-4528-89BF-AA5D12E8E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Requirements Elici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Refining use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nsures the system’s behavior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describe the behavior of the system in the presence of errors and exceptional condi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Identifying relationships among use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solidate the use case model by eliminating redundancies.  Ensures the specific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758-3AC6-42C0-A05E-88512488E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Requirements Elici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Identifying nonfunctional 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spects of the systems visible to the user but not directly related to the functionality.  Constrain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916-04A3-4B08-8568-7BB93555D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Functional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interactions between the system and its environment independent of its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levels of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tatements in natural language plus  diagrams. (target client, end us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functional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sets out system services and constraints in detail.  Contract between system buyer and developer. (target end users, clients, s/w develope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9D9-77B7-4BDE-A0AC-4993C5E5A3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design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bstract description of software design. (target s/w develo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requi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ystem shall provide a means to send a request to the Support Services help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requi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ystem shall provide the CS user with a template for data entry (See appendix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9 - 09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8FD-9E7A-434A-B76C-58C2ED5E4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28T21:57:36Z</dcterms:modified>
  <cp:revision>416</cp:revision>
  <dc:subject/>
  <dc:title>Slide 1</dc:title>
</cp:coreProperties>
</file>